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E55-71B3-4FFB-9806-1CFB48F6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3F6-64B9-4C11-A8DE-4B1BFB37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7C5-505D-4120-9B03-08BBA102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780-3333-4ABA-A4CA-5C905611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30BF-41B2-4C96-8509-45A03D45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57C3-EAB0-46A5-A47F-87C149AC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AC6F-254B-4099-A3EF-3E067302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3599-6615-4E58-AF71-F4D6C4A7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3B4A-D2A2-428B-A38D-AFFE28EB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D73D-1129-4046-ACD1-681D1169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8FC4-363A-412F-A2DD-C7E3DDF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7C6-B321-4F9C-9CA8-92BD9C9E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04CB-AF8F-46D5-B0C3-65E73D2F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8884-8B2F-4033-BFFB-2F63043C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FFCF-D079-4B63-98D7-1A583E43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37BE-C88D-4EAA-ACAE-B665B07C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F03A-352B-4774-AF72-11E913F0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733-A056-41E9-82EA-6977E5CB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E9B-B17A-4BBA-8326-C46A109D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FC9-A5BB-49A3-BDFD-94FD3960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7D5-F4E8-42EB-AF86-1FEE49AE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5F7-4490-4CAE-B657-A5C4693C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44E-7712-4665-ACE2-FAEAB7A1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422-5364-4AE8-B054-0C29A7DE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DBB7-1EF4-4A95-9065-E7124C8DB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2F1D-3C73-45AB-BC2A-D5E84FDA0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Unit 14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bjective:  Students will find the area of a parallelogram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9920" y="304560"/>
            <a:ext cx="754380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Warm up: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redecorating your bedroom and know that you need a carpet with an area of 48 sq. ft.  What are the dimensions of your room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st as many answers as possibl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34640" y="4491000"/>
            <a:ext cx="1440" cy="108000"/>
          </a:xfrm>
          <a:custGeom>
            <a:avLst/>
            <a:gdLst/>
            <a:ahLst/>
            <a:rect l="l" t="t" r="r" b="b"/>
            <a:pathLst>
              <a:path w="1" h="298">
                <a:moveTo>
                  <a:pt x="25375" y="12774"/>
                </a:moveTo>
                <a:cubicBezTo>
                  <a:pt x="25375" y="12675"/>
                  <a:pt x="25375" y="12576"/>
                  <a:pt x="25375" y="124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20920" y="2840040"/>
            <a:ext cx="501480" cy="312840"/>
          </a:xfrm>
          <a:custGeom>
            <a:avLst/>
            <a:gdLst/>
            <a:ahLst/>
            <a:rect l="l" t="t" r="r" b="b"/>
            <a:pathLst>
              <a:path w="1390" h="869">
                <a:moveTo>
                  <a:pt x="6747" y="8161"/>
                </a:moveTo>
                <a:cubicBezTo>
                  <a:pt x="6747" y="8083"/>
                  <a:pt x="6779" y="7945"/>
                  <a:pt x="6697" y="8136"/>
                </a:cubicBezTo>
                <a:cubicBezTo>
                  <a:pt x="6662" y="8218"/>
                  <a:pt x="6526" y="8801"/>
                  <a:pt x="6499" y="8558"/>
                </a:cubicBezTo>
                <a:cubicBezTo>
                  <a:pt x="6578" y="8337"/>
                  <a:pt x="6636" y="8094"/>
                  <a:pt x="6821" y="7938"/>
                </a:cubicBezTo>
                <a:cubicBezTo>
                  <a:pt x="6854" y="7921"/>
                  <a:pt x="6888" y="7905"/>
                  <a:pt x="6921" y="7888"/>
                </a:cubicBezTo>
                <a:cubicBezTo>
                  <a:pt x="7071" y="8121"/>
                  <a:pt x="7069" y="8310"/>
                  <a:pt x="7020" y="8582"/>
                </a:cubicBezTo>
                <a:cubicBezTo>
                  <a:pt x="7000" y="8683"/>
                  <a:pt x="7002" y="8703"/>
                  <a:pt x="6970" y="8756"/>
                </a:cubicBezTo>
              </a:path>
              <a:path w="1390" h="869">
                <a:moveTo>
                  <a:pt x="6449" y="8409"/>
                </a:moveTo>
                <a:cubicBezTo>
                  <a:pt x="6709" y="8354"/>
                  <a:pt x="6952" y="8318"/>
                  <a:pt x="7218" y="8310"/>
                </a:cubicBezTo>
              </a:path>
              <a:path w="1390" h="869">
                <a:moveTo>
                  <a:pt x="7466" y="8359"/>
                </a:moveTo>
                <a:cubicBezTo>
                  <a:pt x="7605" y="8342"/>
                  <a:pt x="7700" y="8334"/>
                  <a:pt x="7838" y="8359"/>
                </a:cubicBezTo>
              </a:path>
              <a:path w="1390" h="869">
                <a:moveTo>
                  <a:pt x="7441" y="8582"/>
                </a:moveTo>
                <a:cubicBezTo>
                  <a:pt x="7640" y="8561"/>
                  <a:pt x="7690" y="8557"/>
                  <a:pt x="7813" y="85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16160" y="2894040"/>
            <a:ext cx="285840" cy="276120"/>
          </a:xfrm>
          <a:custGeom>
            <a:avLst/>
            <a:gdLst/>
            <a:ahLst/>
            <a:rect l="l" t="t" r="r" b="b"/>
            <a:pathLst>
              <a:path w="795" h="770">
                <a:moveTo>
                  <a:pt x="8806" y="8037"/>
                </a:moveTo>
                <a:cubicBezTo>
                  <a:pt x="8765" y="8299"/>
                  <a:pt x="8719" y="8548"/>
                  <a:pt x="8657" y="8806"/>
                </a:cubicBezTo>
              </a:path>
              <a:path w="795" h="770">
                <a:moveTo>
                  <a:pt x="9327" y="8235"/>
                </a:moveTo>
                <a:cubicBezTo>
                  <a:pt x="9344" y="8403"/>
                  <a:pt x="9382" y="8567"/>
                  <a:pt x="9426" y="8731"/>
                </a:cubicBezTo>
              </a:path>
              <a:path w="795" h="770">
                <a:moveTo>
                  <a:pt x="9451" y="8260"/>
                </a:moveTo>
                <a:cubicBezTo>
                  <a:pt x="9335" y="8407"/>
                  <a:pt x="9218" y="8542"/>
                  <a:pt x="9128" y="87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2200" y="2982960"/>
            <a:ext cx="312840" cy="160200"/>
          </a:xfrm>
          <a:custGeom>
            <a:avLst/>
            <a:gdLst/>
            <a:ahLst/>
            <a:rect l="l" t="t" r="r" b="b"/>
            <a:pathLst>
              <a:path w="869" h="447">
                <a:moveTo>
                  <a:pt x="9996" y="8384"/>
                </a:moveTo>
                <a:cubicBezTo>
                  <a:pt x="9929" y="8509"/>
                  <a:pt x="9910" y="8591"/>
                  <a:pt x="9897" y="8731"/>
                </a:cubicBezTo>
                <a:cubicBezTo>
                  <a:pt x="10095" y="8696"/>
                  <a:pt x="10188" y="8580"/>
                  <a:pt x="10319" y="8434"/>
                </a:cubicBezTo>
                <a:cubicBezTo>
                  <a:pt x="10227" y="8402"/>
                  <a:pt x="10196" y="8689"/>
                  <a:pt x="10393" y="8731"/>
                </a:cubicBezTo>
                <a:cubicBezTo>
                  <a:pt x="10626" y="8781"/>
                  <a:pt x="10862" y="8551"/>
                  <a:pt x="10716" y="8334"/>
                </a:cubicBezTo>
                <a:cubicBezTo>
                  <a:pt x="10691" y="8318"/>
                  <a:pt x="10666" y="8301"/>
                  <a:pt x="10641" y="82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2880" y="3483000"/>
            <a:ext cx="714240" cy="357120"/>
          </a:xfrm>
          <a:custGeom>
            <a:avLst/>
            <a:gdLst/>
            <a:ahLst/>
            <a:rect l="l" t="t" r="r" b="b"/>
            <a:pathLst>
              <a:path w="1985" h="993">
                <a:moveTo>
                  <a:pt x="6003" y="9872"/>
                </a:moveTo>
                <a:cubicBezTo>
                  <a:pt x="6024" y="9707"/>
                  <a:pt x="5821" y="9766"/>
                  <a:pt x="5705" y="9823"/>
                </a:cubicBezTo>
                <a:cubicBezTo>
                  <a:pt x="5575" y="9909"/>
                  <a:pt x="5535" y="9922"/>
                  <a:pt x="5507" y="10021"/>
                </a:cubicBezTo>
                <a:cubicBezTo>
                  <a:pt x="5640" y="10130"/>
                  <a:pt x="6106" y="10327"/>
                  <a:pt x="5953" y="10567"/>
                </a:cubicBezTo>
                <a:cubicBezTo>
                  <a:pt x="5819" y="10656"/>
                  <a:pt x="5788" y="10689"/>
                  <a:pt x="5680" y="10666"/>
                </a:cubicBezTo>
                <a:cubicBezTo>
                  <a:pt x="5700" y="10320"/>
                  <a:pt x="5777" y="10197"/>
                  <a:pt x="6028" y="9947"/>
                </a:cubicBezTo>
              </a:path>
              <a:path w="1985" h="993">
                <a:moveTo>
                  <a:pt x="6970" y="9872"/>
                </a:moveTo>
                <a:cubicBezTo>
                  <a:pt x="6920" y="9747"/>
                  <a:pt x="6808" y="9573"/>
                  <a:pt x="6648" y="9723"/>
                </a:cubicBezTo>
                <a:cubicBezTo>
                  <a:pt x="6442" y="9917"/>
                  <a:pt x="6578" y="10196"/>
                  <a:pt x="6648" y="10418"/>
                </a:cubicBezTo>
                <a:cubicBezTo>
                  <a:pt x="6656" y="10443"/>
                  <a:pt x="6664" y="10467"/>
                  <a:pt x="6672" y="10492"/>
                </a:cubicBezTo>
              </a:path>
              <a:path w="1985" h="993">
                <a:moveTo>
                  <a:pt x="6251" y="10269"/>
                </a:moveTo>
                <a:cubicBezTo>
                  <a:pt x="6475" y="10249"/>
                  <a:pt x="6697" y="10238"/>
                  <a:pt x="6921" y="10220"/>
                </a:cubicBezTo>
              </a:path>
              <a:path w="1985" h="993">
                <a:moveTo>
                  <a:pt x="7317" y="9847"/>
                </a:moveTo>
                <a:cubicBezTo>
                  <a:pt x="7292" y="10011"/>
                  <a:pt x="7186" y="10250"/>
                  <a:pt x="7243" y="10418"/>
                </a:cubicBezTo>
                <a:cubicBezTo>
                  <a:pt x="7285" y="10543"/>
                  <a:pt x="7407" y="10503"/>
                  <a:pt x="7491" y="10492"/>
                </a:cubicBezTo>
              </a:path>
              <a:path w="1985" h="993">
                <a:moveTo>
                  <a:pt x="6970" y="10269"/>
                </a:moveTo>
                <a:cubicBezTo>
                  <a:pt x="7147" y="10262"/>
                  <a:pt x="7315" y="10244"/>
                  <a:pt x="7491" y="102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2960" y="3544920"/>
            <a:ext cx="152280" cy="196920"/>
          </a:xfrm>
          <a:custGeom>
            <a:avLst/>
            <a:gdLst/>
            <a:ahLst/>
            <a:rect l="l" t="t" r="r" b="b"/>
            <a:pathLst>
              <a:path w="422" h="547">
                <a:moveTo>
                  <a:pt x="8285" y="9922"/>
                </a:moveTo>
                <a:cubicBezTo>
                  <a:pt x="8432" y="10075"/>
                  <a:pt x="8568" y="10233"/>
                  <a:pt x="8706" y="10393"/>
                </a:cubicBezTo>
              </a:path>
              <a:path w="422" h="547">
                <a:moveTo>
                  <a:pt x="8657" y="9847"/>
                </a:moveTo>
                <a:cubicBezTo>
                  <a:pt x="8543" y="10008"/>
                  <a:pt x="8483" y="10193"/>
                  <a:pt x="8384" y="103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84720" y="3419640"/>
            <a:ext cx="731520" cy="331560"/>
          </a:xfrm>
          <a:custGeom>
            <a:avLst/>
            <a:gdLst/>
            <a:ahLst/>
            <a:rect l="l" t="t" r="r" b="b"/>
            <a:pathLst>
              <a:path w="2035" h="919">
                <a:moveTo>
                  <a:pt x="9475" y="9599"/>
                </a:moveTo>
                <a:cubicBezTo>
                  <a:pt x="9457" y="9822"/>
                  <a:pt x="9383" y="10042"/>
                  <a:pt x="9401" y="10269"/>
                </a:cubicBezTo>
                <a:cubicBezTo>
                  <a:pt x="9409" y="10310"/>
                  <a:pt x="9418" y="10352"/>
                  <a:pt x="9426" y="10393"/>
                </a:cubicBezTo>
                <a:cubicBezTo>
                  <a:pt x="9639" y="10433"/>
                  <a:pt x="9782" y="10409"/>
                  <a:pt x="9922" y="10220"/>
                </a:cubicBezTo>
                <a:cubicBezTo>
                  <a:pt x="9944" y="10153"/>
                  <a:pt x="9956" y="10135"/>
                  <a:pt x="9922" y="10096"/>
                </a:cubicBezTo>
                <a:cubicBezTo>
                  <a:pt x="9746" y="10055"/>
                  <a:pt x="9670" y="10097"/>
                  <a:pt x="9624" y="10294"/>
                </a:cubicBezTo>
                <a:cubicBezTo>
                  <a:pt x="9624" y="10327"/>
                  <a:pt x="9624" y="10360"/>
                  <a:pt x="9624" y="10393"/>
                </a:cubicBezTo>
              </a:path>
              <a:path w="2035" h="919">
                <a:moveTo>
                  <a:pt x="10666" y="9649"/>
                </a:moveTo>
                <a:cubicBezTo>
                  <a:pt x="10610" y="9583"/>
                  <a:pt x="10431" y="9376"/>
                  <a:pt x="10344" y="9550"/>
                </a:cubicBezTo>
                <a:cubicBezTo>
                  <a:pt x="10234" y="9770"/>
                  <a:pt x="10394" y="10070"/>
                  <a:pt x="10418" y="10294"/>
                </a:cubicBezTo>
                <a:cubicBezTo>
                  <a:pt x="10418" y="10327"/>
                  <a:pt x="10418" y="10360"/>
                  <a:pt x="10418" y="10393"/>
                </a:cubicBezTo>
              </a:path>
              <a:path w="2035" h="919">
                <a:moveTo>
                  <a:pt x="10071" y="10021"/>
                </a:moveTo>
                <a:cubicBezTo>
                  <a:pt x="10275" y="10028"/>
                  <a:pt x="10463" y="10033"/>
                  <a:pt x="10666" y="10021"/>
                </a:cubicBezTo>
              </a:path>
              <a:path w="2035" h="919">
                <a:moveTo>
                  <a:pt x="11038" y="9599"/>
                </a:moveTo>
                <a:cubicBezTo>
                  <a:pt x="11027" y="9812"/>
                  <a:pt x="10984" y="10008"/>
                  <a:pt x="11013" y="10220"/>
                </a:cubicBezTo>
                <a:cubicBezTo>
                  <a:pt x="11042" y="10427"/>
                  <a:pt x="11210" y="10389"/>
                  <a:pt x="11385" y="10344"/>
                </a:cubicBezTo>
                <a:cubicBezTo>
                  <a:pt x="11402" y="10336"/>
                  <a:pt x="11418" y="10327"/>
                  <a:pt x="11435" y="10319"/>
                </a:cubicBezTo>
              </a:path>
              <a:path w="2035" h="919">
                <a:moveTo>
                  <a:pt x="10765" y="10021"/>
                </a:moveTo>
                <a:cubicBezTo>
                  <a:pt x="10931" y="10006"/>
                  <a:pt x="11092" y="9996"/>
                  <a:pt x="11261" y="9996"/>
                </a:cubicBezTo>
                <a:cubicBezTo>
                  <a:pt x="11269" y="9996"/>
                  <a:pt x="11278" y="9996"/>
                  <a:pt x="11286" y="999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81240" y="3983040"/>
            <a:ext cx="13356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8657" y="11063"/>
                </a:moveTo>
                <a:cubicBezTo>
                  <a:pt x="8711" y="11209"/>
                  <a:pt x="8784" y="11353"/>
                  <a:pt x="8830" y="11509"/>
                </a:cubicBezTo>
              </a:path>
              <a:path w="373" h="547">
                <a:moveTo>
                  <a:pt x="8930" y="11063"/>
                </a:moveTo>
                <a:cubicBezTo>
                  <a:pt x="8775" y="11193"/>
                  <a:pt x="8665" y="11416"/>
                  <a:pt x="8558" y="116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73280" y="3894120"/>
            <a:ext cx="179640" cy="3301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9773" y="11063"/>
                </a:moveTo>
                <a:cubicBezTo>
                  <a:pt x="9715" y="11156"/>
                  <a:pt x="9690" y="11259"/>
                  <a:pt x="9649" y="11361"/>
                </a:cubicBezTo>
                <a:cubicBezTo>
                  <a:pt x="9819" y="11392"/>
                  <a:pt x="9972" y="11371"/>
                  <a:pt x="10145" y="11361"/>
                </a:cubicBezTo>
              </a:path>
              <a:path w="497" h="919">
                <a:moveTo>
                  <a:pt x="10071" y="10815"/>
                </a:moveTo>
                <a:cubicBezTo>
                  <a:pt x="9984" y="11072"/>
                  <a:pt x="9949" y="11348"/>
                  <a:pt x="9872" y="11609"/>
                </a:cubicBezTo>
                <a:cubicBezTo>
                  <a:pt x="9856" y="11650"/>
                  <a:pt x="9839" y="11692"/>
                  <a:pt x="9823" y="117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0880" y="3963960"/>
            <a:ext cx="411120" cy="295200"/>
          </a:xfrm>
          <a:custGeom>
            <a:avLst/>
            <a:gdLst/>
            <a:ahLst/>
            <a:rect l="l" t="t" r="r" b="b"/>
            <a:pathLst>
              <a:path w="1142" h="820">
                <a:moveTo>
                  <a:pt x="5333" y="11137"/>
                </a:moveTo>
                <a:cubicBezTo>
                  <a:pt x="5275" y="11370"/>
                  <a:pt x="5193" y="11568"/>
                  <a:pt x="5085" y="11782"/>
                </a:cubicBezTo>
                <a:cubicBezTo>
                  <a:pt x="5077" y="11799"/>
                  <a:pt x="5068" y="11815"/>
                  <a:pt x="5060" y="11832"/>
                </a:cubicBezTo>
              </a:path>
              <a:path w="1142" h="820">
                <a:moveTo>
                  <a:pt x="5854" y="11088"/>
                </a:moveTo>
                <a:cubicBezTo>
                  <a:pt x="5677" y="11262"/>
                  <a:pt x="5911" y="11016"/>
                  <a:pt x="5978" y="11013"/>
                </a:cubicBezTo>
                <a:cubicBezTo>
                  <a:pt x="6028" y="11030"/>
                  <a:pt x="6077" y="11046"/>
                  <a:pt x="6127" y="11063"/>
                </a:cubicBezTo>
                <a:cubicBezTo>
                  <a:pt x="6158" y="11389"/>
                  <a:pt x="6121" y="11647"/>
                  <a:pt x="5730" y="11708"/>
                </a:cubicBezTo>
                <a:cubicBezTo>
                  <a:pt x="5697" y="11700"/>
                  <a:pt x="5664" y="11691"/>
                  <a:pt x="5631" y="11683"/>
                </a:cubicBezTo>
                <a:cubicBezTo>
                  <a:pt x="5757" y="11483"/>
                  <a:pt x="5952" y="11328"/>
                  <a:pt x="6176" y="11559"/>
                </a:cubicBezTo>
                <a:cubicBezTo>
                  <a:pt x="6201" y="11657"/>
                  <a:pt x="6209" y="11689"/>
                  <a:pt x="6201" y="117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20880" y="4402080"/>
            <a:ext cx="457200" cy="312840"/>
          </a:xfrm>
          <a:custGeom>
            <a:avLst/>
            <a:gdLst/>
            <a:ahLst/>
            <a:rect l="l" t="t" r="r" b="b"/>
            <a:pathLst>
              <a:path w="1266" h="869">
                <a:moveTo>
                  <a:pt x="5209" y="12477"/>
                </a:moveTo>
                <a:cubicBezTo>
                  <a:pt x="5200" y="12612"/>
                  <a:pt x="5148" y="12677"/>
                  <a:pt x="5060" y="12799"/>
                </a:cubicBezTo>
                <a:cubicBezTo>
                  <a:pt x="5229" y="12799"/>
                  <a:pt x="5389" y="12793"/>
                  <a:pt x="5556" y="12774"/>
                </a:cubicBezTo>
              </a:path>
              <a:path w="1266" h="869">
                <a:moveTo>
                  <a:pt x="5705" y="12229"/>
                </a:moveTo>
                <a:cubicBezTo>
                  <a:pt x="5646" y="12517"/>
                  <a:pt x="5580" y="12806"/>
                  <a:pt x="5556" y="13097"/>
                </a:cubicBezTo>
              </a:path>
              <a:path w="1266" h="869">
                <a:moveTo>
                  <a:pt x="6201" y="12303"/>
                </a:moveTo>
                <a:cubicBezTo>
                  <a:pt x="5906" y="12488"/>
                  <a:pt x="5934" y="12497"/>
                  <a:pt x="6176" y="12750"/>
                </a:cubicBezTo>
                <a:cubicBezTo>
                  <a:pt x="6285" y="12859"/>
                  <a:pt x="6336" y="12881"/>
                  <a:pt x="6251" y="12973"/>
                </a:cubicBezTo>
                <a:cubicBezTo>
                  <a:pt x="6201" y="12989"/>
                  <a:pt x="6152" y="13006"/>
                  <a:pt x="6102" y="13022"/>
                </a:cubicBezTo>
                <a:cubicBezTo>
                  <a:pt x="5997" y="12799"/>
                  <a:pt x="6174" y="12631"/>
                  <a:pt x="6325" y="123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57280" y="4438800"/>
            <a:ext cx="874800" cy="534960"/>
          </a:xfrm>
          <a:custGeom>
            <a:avLst/>
            <a:gdLst/>
            <a:ahLst/>
            <a:rect l="l" t="t" r="r" b="b"/>
            <a:pathLst>
              <a:path w="2432" h="1489">
                <a:moveTo>
                  <a:pt x="8533" y="12427"/>
                </a:moveTo>
                <a:cubicBezTo>
                  <a:pt x="8594" y="12549"/>
                  <a:pt x="8656" y="12661"/>
                  <a:pt x="8731" y="12774"/>
                </a:cubicBezTo>
              </a:path>
              <a:path w="2432" h="1489">
                <a:moveTo>
                  <a:pt x="8781" y="12328"/>
                </a:moveTo>
                <a:cubicBezTo>
                  <a:pt x="8671" y="12496"/>
                  <a:pt x="8598" y="12668"/>
                  <a:pt x="8508" y="12849"/>
                </a:cubicBezTo>
              </a:path>
              <a:path w="2432" h="1489">
                <a:moveTo>
                  <a:pt x="6821" y="13171"/>
                </a:moveTo>
                <a:cubicBezTo>
                  <a:pt x="6922" y="13362"/>
                  <a:pt x="7033" y="13472"/>
                  <a:pt x="7218" y="13593"/>
                </a:cubicBezTo>
                <a:cubicBezTo>
                  <a:pt x="7419" y="13725"/>
                  <a:pt x="7648" y="13797"/>
                  <a:pt x="7888" y="13816"/>
                </a:cubicBezTo>
                <a:cubicBezTo>
                  <a:pt x="8095" y="13832"/>
                  <a:pt x="8290" y="13782"/>
                  <a:pt x="8483" y="13717"/>
                </a:cubicBezTo>
                <a:cubicBezTo>
                  <a:pt x="8611" y="13674"/>
                  <a:pt x="8735" y="13619"/>
                  <a:pt x="8830" y="13519"/>
                </a:cubicBezTo>
                <a:cubicBezTo>
                  <a:pt x="8875" y="13472"/>
                  <a:pt x="8869" y="13374"/>
                  <a:pt x="8905" y="13320"/>
                </a:cubicBezTo>
                <a:cubicBezTo>
                  <a:pt x="8951" y="13274"/>
                  <a:pt x="8965" y="13262"/>
                  <a:pt x="8979" y="13221"/>
                </a:cubicBezTo>
                <a:cubicBezTo>
                  <a:pt x="8832" y="13180"/>
                  <a:pt x="8708" y="13212"/>
                  <a:pt x="8558" y="13246"/>
                </a:cubicBezTo>
                <a:cubicBezTo>
                  <a:pt x="8701" y="13222"/>
                  <a:pt x="8839" y="13168"/>
                  <a:pt x="8979" y="13122"/>
                </a:cubicBezTo>
                <a:cubicBezTo>
                  <a:pt x="8947" y="13297"/>
                  <a:pt x="8918" y="13424"/>
                  <a:pt x="8979" y="13593"/>
                </a:cubicBezTo>
              </a:path>
              <a:path w="2432" h="1489">
                <a:moveTo>
                  <a:pt x="6747" y="13171"/>
                </a:moveTo>
                <a:cubicBezTo>
                  <a:pt x="6678" y="13344"/>
                  <a:pt x="6618" y="13518"/>
                  <a:pt x="6548" y="13692"/>
                </a:cubicBezTo>
                <a:cubicBezTo>
                  <a:pt x="6617" y="13515"/>
                  <a:pt x="6657" y="13332"/>
                  <a:pt x="6697" y="13146"/>
                </a:cubicBezTo>
                <a:cubicBezTo>
                  <a:pt x="6849" y="13215"/>
                  <a:pt x="6999" y="13287"/>
                  <a:pt x="7144" y="133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4920" y="4402080"/>
            <a:ext cx="81000" cy="277920"/>
          </a:xfrm>
          <a:custGeom>
            <a:avLst/>
            <a:gdLst/>
            <a:ahLst/>
            <a:rect l="l" t="t" r="r" b="b"/>
            <a:pathLst>
              <a:path w="225" h="770">
                <a:moveTo>
                  <a:pt x="10046" y="12254"/>
                </a:moveTo>
                <a:cubicBezTo>
                  <a:pt x="10101" y="12144"/>
                  <a:pt x="10028" y="12432"/>
                  <a:pt x="9996" y="12551"/>
                </a:cubicBezTo>
                <a:cubicBezTo>
                  <a:pt x="9955" y="12704"/>
                  <a:pt x="9908" y="12852"/>
                  <a:pt x="9847" y="129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55880" y="4983120"/>
            <a:ext cx="339480" cy="285840"/>
          </a:xfrm>
          <a:custGeom>
            <a:avLst/>
            <a:gdLst/>
            <a:ahLst/>
            <a:rect l="l" t="t" r="r" b="b"/>
            <a:pathLst>
              <a:path w="944" h="795">
                <a:moveTo>
                  <a:pt x="5606" y="13990"/>
                </a:moveTo>
                <a:cubicBezTo>
                  <a:pt x="5557" y="14198"/>
                  <a:pt x="5510" y="14388"/>
                  <a:pt x="5432" y="14585"/>
                </a:cubicBezTo>
              </a:path>
              <a:path w="944" h="795">
                <a:moveTo>
                  <a:pt x="5928" y="13841"/>
                </a:moveTo>
                <a:cubicBezTo>
                  <a:pt x="5873" y="14111"/>
                  <a:pt x="5831" y="14317"/>
                  <a:pt x="5879" y="14585"/>
                </a:cubicBezTo>
                <a:cubicBezTo>
                  <a:pt x="6146" y="14642"/>
                  <a:pt x="6289" y="14544"/>
                  <a:pt x="6375" y="14263"/>
                </a:cubicBezTo>
                <a:cubicBezTo>
                  <a:pt x="6375" y="14230"/>
                  <a:pt x="6375" y="14196"/>
                  <a:pt x="6375" y="14163"/>
                </a:cubicBezTo>
                <a:cubicBezTo>
                  <a:pt x="6156" y="14197"/>
                  <a:pt x="6167" y="14282"/>
                  <a:pt x="6176" y="144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95760" y="5027760"/>
            <a:ext cx="14256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7789" y="14039"/>
                </a:moveTo>
                <a:cubicBezTo>
                  <a:pt x="7883" y="14189"/>
                  <a:pt x="7988" y="14307"/>
                  <a:pt x="8111" y="14436"/>
                </a:cubicBezTo>
              </a:path>
              <a:path w="398" h="522">
                <a:moveTo>
                  <a:pt x="8161" y="13965"/>
                </a:moveTo>
                <a:cubicBezTo>
                  <a:pt x="8024" y="14136"/>
                  <a:pt x="7896" y="14310"/>
                  <a:pt x="7764" y="144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51160" y="4929120"/>
            <a:ext cx="214200" cy="231840"/>
          </a:xfrm>
          <a:custGeom>
            <a:avLst/>
            <a:gdLst/>
            <a:ahLst/>
            <a:rect l="l" t="t" r="r" b="b"/>
            <a:pathLst>
              <a:path w="596" h="646">
                <a:moveTo>
                  <a:pt x="9029" y="13767"/>
                </a:moveTo>
                <a:cubicBezTo>
                  <a:pt x="9169" y="13739"/>
                  <a:pt x="9323" y="13647"/>
                  <a:pt x="9475" y="13692"/>
                </a:cubicBezTo>
                <a:cubicBezTo>
                  <a:pt x="9713" y="13763"/>
                  <a:pt x="9337" y="13957"/>
                  <a:pt x="9277" y="13990"/>
                </a:cubicBezTo>
                <a:cubicBezTo>
                  <a:pt x="9382" y="13966"/>
                  <a:pt x="9759" y="13894"/>
                  <a:pt x="9624" y="14163"/>
                </a:cubicBezTo>
                <a:cubicBezTo>
                  <a:pt x="9510" y="14392"/>
                  <a:pt x="9258" y="14310"/>
                  <a:pt x="9079" y="142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89080" y="5322960"/>
            <a:ext cx="312840" cy="285840"/>
          </a:xfrm>
          <a:custGeom>
            <a:avLst/>
            <a:gdLst/>
            <a:ahLst/>
            <a:rect l="l" t="t" r="r" b="b"/>
            <a:pathLst>
              <a:path w="869" h="794">
                <a:moveTo>
                  <a:pt x="6449" y="15007"/>
                </a:moveTo>
                <a:cubicBezTo>
                  <a:pt x="6363" y="15084"/>
                  <a:pt x="6297" y="15182"/>
                  <a:pt x="6226" y="15280"/>
                </a:cubicBezTo>
              </a:path>
              <a:path w="869" h="794">
                <a:moveTo>
                  <a:pt x="5928" y="14982"/>
                </a:moveTo>
                <a:cubicBezTo>
                  <a:pt x="5986" y="14838"/>
                  <a:pt x="6031" y="14850"/>
                  <a:pt x="6176" y="14784"/>
                </a:cubicBezTo>
                <a:cubicBezTo>
                  <a:pt x="6403" y="15010"/>
                  <a:pt x="6374" y="15320"/>
                  <a:pt x="6028" y="15528"/>
                </a:cubicBezTo>
                <a:cubicBezTo>
                  <a:pt x="5883" y="15569"/>
                  <a:pt x="5842" y="15610"/>
                  <a:pt x="5804" y="15503"/>
                </a:cubicBezTo>
                <a:cubicBezTo>
                  <a:pt x="5976" y="15281"/>
                  <a:pt x="6204" y="15131"/>
                  <a:pt x="6499" y="15329"/>
                </a:cubicBezTo>
                <a:cubicBezTo>
                  <a:pt x="6597" y="15446"/>
                  <a:pt x="6609" y="15466"/>
                  <a:pt x="6672" y="155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3120" y="5340240"/>
            <a:ext cx="18756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7342" y="14833"/>
                </a:moveTo>
                <a:cubicBezTo>
                  <a:pt x="7510" y="15010"/>
                  <a:pt x="7666" y="15159"/>
                  <a:pt x="7863" y="15304"/>
                </a:cubicBezTo>
              </a:path>
              <a:path w="522" h="547">
                <a:moveTo>
                  <a:pt x="7689" y="14858"/>
                </a:moveTo>
                <a:cubicBezTo>
                  <a:pt x="7614" y="15033"/>
                  <a:pt x="7545" y="15198"/>
                  <a:pt x="7491" y="153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71880" y="5143680"/>
            <a:ext cx="357120" cy="393480"/>
          </a:xfrm>
          <a:custGeom>
            <a:avLst/>
            <a:gdLst/>
            <a:ahLst/>
            <a:rect l="l" t="t" r="r" b="b"/>
            <a:pathLst>
              <a:path w="993" h="1092">
                <a:moveTo>
                  <a:pt x="8706" y="14709"/>
                </a:moveTo>
                <a:cubicBezTo>
                  <a:pt x="8908" y="14709"/>
                  <a:pt x="9052" y="14854"/>
                  <a:pt x="8930" y="15081"/>
                </a:cubicBezTo>
                <a:cubicBezTo>
                  <a:pt x="8833" y="15262"/>
                  <a:pt x="8693" y="15222"/>
                  <a:pt x="8533" y="15205"/>
                </a:cubicBezTo>
                <a:cubicBezTo>
                  <a:pt x="8620" y="15077"/>
                  <a:pt x="8832" y="14778"/>
                  <a:pt x="9004" y="15032"/>
                </a:cubicBezTo>
                <a:cubicBezTo>
                  <a:pt x="9024" y="15133"/>
                  <a:pt x="9022" y="15153"/>
                  <a:pt x="9054" y="15205"/>
                </a:cubicBezTo>
              </a:path>
              <a:path w="993" h="1092">
                <a:moveTo>
                  <a:pt x="9178" y="14684"/>
                </a:moveTo>
                <a:cubicBezTo>
                  <a:pt x="9178" y="14747"/>
                  <a:pt x="9144" y="14915"/>
                  <a:pt x="9252" y="14932"/>
                </a:cubicBezTo>
                <a:cubicBezTo>
                  <a:pt x="9302" y="14924"/>
                  <a:pt x="9351" y="14916"/>
                  <a:pt x="9401" y="14908"/>
                </a:cubicBezTo>
              </a:path>
              <a:path w="993" h="1092">
                <a:moveTo>
                  <a:pt x="9525" y="14288"/>
                </a:moveTo>
                <a:cubicBezTo>
                  <a:pt x="9443" y="14555"/>
                  <a:pt x="9433" y="14827"/>
                  <a:pt x="9401" y="15106"/>
                </a:cubicBezTo>
                <a:cubicBezTo>
                  <a:pt x="9381" y="15263"/>
                  <a:pt x="9373" y="15287"/>
                  <a:pt x="9376" y="153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4800" y="3759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431" y="10443"/>
                </a:moveTo>
                <a:lnTo>
                  <a:pt x="2431" y="1044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24040" y="5715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787" y="15875"/>
                </a:moveTo>
                <a:lnTo>
                  <a:pt x="4787" y="1587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35080" y="6037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655" y="16768"/>
                </a:moveTo>
                <a:lnTo>
                  <a:pt x="5655" y="16768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619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350" y="17214"/>
                </a:moveTo>
                <a:lnTo>
                  <a:pt x="6350" y="1721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28840" y="681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69" y="18926"/>
                </a:moveTo>
                <a:lnTo>
                  <a:pt x="3969" y="18926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bjective:  Students will find the area of a parallelogram</a:t>
            </a: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 Vocabulary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allelogr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2362320"/>
            <a:ext cx="5790960" cy="2286000"/>
          </a:xfrm>
          <a:prstGeom prst="parallelogram">
            <a:avLst>
              <a:gd name="adj" fmla="val 6333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480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124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30680" y="1035000"/>
            <a:ext cx="901440" cy="162000"/>
          </a:xfrm>
          <a:custGeom>
            <a:avLst/>
            <a:gdLst/>
            <a:ahLst/>
            <a:rect l="l" t="t" r="r" b="b"/>
            <a:pathLst>
              <a:path w="2506" h="448">
                <a:moveTo>
                  <a:pt x="8062" y="3051"/>
                </a:moveTo>
                <a:cubicBezTo>
                  <a:pt x="8157" y="3075"/>
                  <a:pt x="8111" y="3217"/>
                  <a:pt x="8111" y="3299"/>
                </a:cubicBezTo>
              </a:path>
              <a:path w="2506" h="448">
                <a:moveTo>
                  <a:pt x="7863" y="3051"/>
                </a:moveTo>
                <a:cubicBezTo>
                  <a:pt x="7991" y="2993"/>
                  <a:pt x="8158" y="2909"/>
                  <a:pt x="8285" y="3026"/>
                </a:cubicBezTo>
                <a:cubicBezTo>
                  <a:pt x="8414" y="3144"/>
                  <a:pt x="8187" y="3170"/>
                  <a:pt x="8136" y="3175"/>
                </a:cubicBezTo>
                <a:cubicBezTo>
                  <a:pt x="8124" y="3176"/>
                  <a:pt x="8237" y="3251"/>
                  <a:pt x="8285" y="3299"/>
                </a:cubicBezTo>
              </a:path>
              <a:path w="2506" h="448">
                <a:moveTo>
                  <a:pt x="8409" y="3249"/>
                </a:moveTo>
                <a:cubicBezTo>
                  <a:pt x="8477" y="3196"/>
                  <a:pt x="8511" y="3185"/>
                  <a:pt x="8483" y="3101"/>
                </a:cubicBezTo>
                <a:cubicBezTo>
                  <a:pt x="8429" y="3108"/>
                  <a:pt x="8265" y="3184"/>
                  <a:pt x="8384" y="3249"/>
                </a:cubicBezTo>
                <a:cubicBezTo>
                  <a:pt x="8417" y="3257"/>
                  <a:pt x="8450" y="3266"/>
                  <a:pt x="8483" y="3274"/>
                </a:cubicBezTo>
              </a:path>
              <a:path w="2506" h="448">
                <a:moveTo>
                  <a:pt x="8806" y="3076"/>
                </a:moveTo>
                <a:cubicBezTo>
                  <a:pt x="8696" y="3060"/>
                  <a:pt x="8715" y="3162"/>
                  <a:pt x="8706" y="3274"/>
                </a:cubicBezTo>
                <a:cubicBezTo>
                  <a:pt x="8817" y="3274"/>
                  <a:pt x="8861" y="3270"/>
                  <a:pt x="8930" y="3225"/>
                </a:cubicBezTo>
              </a:path>
              <a:path w="2506" h="448">
                <a:moveTo>
                  <a:pt x="8954" y="2877"/>
                </a:moveTo>
                <a:cubicBezTo>
                  <a:pt x="8928" y="2983"/>
                  <a:pt x="8930" y="3088"/>
                  <a:pt x="8930" y="3200"/>
                </a:cubicBezTo>
              </a:path>
              <a:path w="2506" h="448">
                <a:moveTo>
                  <a:pt x="8855" y="3150"/>
                </a:moveTo>
                <a:cubicBezTo>
                  <a:pt x="8926" y="3142"/>
                  <a:pt x="8985" y="3123"/>
                  <a:pt x="9054" y="3101"/>
                </a:cubicBezTo>
              </a:path>
              <a:path w="2506" h="448">
                <a:moveTo>
                  <a:pt x="9376" y="3150"/>
                </a:moveTo>
                <a:cubicBezTo>
                  <a:pt x="9272" y="3138"/>
                  <a:pt x="9266" y="3168"/>
                  <a:pt x="9178" y="3249"/>
                </a:cubicBezTo>
                <a:cubicBezTo>
                  <a:pt x="9277" y="3278"/>
                  <a:pt x="9307" y="3208"/>
                  <a:pt x="9401" y="3200"/>
                </a:cubicBezTo>
                <a:cubicBezTo>
                  <a:pt x="9473" y="3194"/>
                  <a:pt x="9572" y="3098"/>
                  <a:pt x="9624" y="3101"/>
                </a:cubicBezTo>
                <a:cubicBezTo>
                  <a:pt x="9672" y="3124"/>
                  <a:pt x="9689" y="3130"/>
                  <a:pt x="9674" y="3175"/>
                </a:cubicBezTo>
              </a:path>
              <a:path w="2506" h="448">
                <a:moveTo>
                  <a:pt x="9947" y="3001"/>
                </a:moveTo>
                <a:cubicBezTo>
                  <a:pt x="9880" y="3044"/>
                  <a:pt x="9754" y="3250"/>
                  <a:pt x="9897" y="3150"/>
                </a:cubicBezTo>
                <a:cubicBezTo>
                  <a:pt x="9914" y="3125"/>
                  <a:pt x="9930" y="3101"/>
                  <a:pt x="9947" y="3076"/>
                </a:cubicBezTo>
                <a:cubicBezTo>
                  <a:pt x="9981" y="3226"/>
                  <a:pt x="9983" y="3248"/>
                  <a:pt x="9847" y="3324"/>
                </a:cubicBezTo>
              </a:path>
              <a:path w="2506" h="448">
                <a:moveTo>
                  <a:pt x="10071" y="2927"/>
                </a:moveTo>
                <a:cubicBezTo>
                  <a:pt x="10096" y="3036"/>
                  <a:pt x="10096" y="3136"/>
                  <a:pt x="10096" y="3249"/>
                </a:cubicBezTo>
              </a:path>
              <a:path w="2506" h="448">
                <a:moveTo>
                  <a:pt x="10195" y="3175"/>
                </a:moveTo>
                <a:cubicBezTo>
                  <a:pt x="10239" y="3151"/>
                  <a:pt x="10460" y="3075"/>
                  <a:pt x="10319" y="3051"/>
                </a:cubicBezTo>
                <a:cubicBezTo>
                  <a:pt x="10201" y="3134"/>
                  <a:pt x="10252" y="3155"/>
                  <a:pt x="10368" y="320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6040" y="1000080"/>
            <a:ext cx="884160" cy="241200"/>
          </a:xfrm>
          <a:custGeom>
            <a:avLst/>
            <a:gdLst/>
            <a:ahLst/>
            <a:rect l="l" t="t" r="r" b="b"/>
            <a:pathLst>
              <a:path w="2457" h="671">
                <a:moveTo>
                  <a:pt x="11112" y="3101"/>
                </a:moveTo>
                <a:cubicBezTo>
                  <a:pt x="11154" y="3215"/>
                  <a:pt x="11178" y="3327"/>
                  <a:pt x="11187" y="3448"/>
                </a:cubicBezTo>
              </a:path>
              <a:path w="2457" h="671">
                <a:moveTo>
                  <a:pt x="10988" y="3150"/>
                </a:moveTo>
                <a:cubicBezTo>
                  <a:pt x="11098" y="3110"/>
                  <a:pt x="11179" y="3073"/>
                  <a:pt x="11286" y="3125"/>
                </a:cubicBezTo>
                <a:cubicBezTo>
                  <a:pt x="11297" y="3213"/>
                  <a:pt x="11273" y="3242"/>
                  <a:pt x="11162" y="3249"/>
                </a:cubicBezTo>
                <a:cubicBezTo>
                  <a:pt x="11145" y="3249"/>
                  <a:pt x="11129" y="3249"/>
                  <a:pt x="11112" y="3249"/>
                </a:cubicBezTo>
              </a:path>
              <a:path w="2457" h="671">
                <a:moveTo>
                  <a:pt x="11534" y="3101"/>
                </a:moveTo>
                <a:cubicBezTo>
                  <a:pt x="11518" y="3084"/>
                  <a:pt x="11501" y="3068"/>
                  <a:pt x="11485" y="3051"/>
                </a:cubicBezTo>
                <a:cubicBezTo>
                  <a:pt x="11379" y="3093"/>
                  <a:pt x="11371" y="3194"/>
                  <a:pt x="11410" y="3299"/>
                </a:cubicBezTo>
                <a:cubicBezTo>
                  <a:pt x="11449" y="3403"/>
                  <a:pt x="11530" y="3160"/>
                  <a:pt x="11534" y="3150"/>
                </a:cubicBezTo>
                <a:cubicBezTo>
                  <a:pt x="11567" y="3202"/>
                  <a:pt x="11601" y="3246"/>
                  <a:pt x="11633" y="3299"/>
                </a:cubicBezTo>
              </a:path>
              <a:path w="2457" h="671">
                <a:moveTo>
                  <a:pt x="11609" y="3150"/>
                </a:moveTo>
                <a:cubicBezTo>
                  <a:pt x="11644" y="3222"/>
                  <a:pt x="11661" y="3115"/>
                  <a:pt x="11733" y="3076"/>
                </a:cubicBezTo>
              </a:path>
              <a:path w="2457" h="671">
                <a:moveTo>
                  <a:pt x="12055" y="3101"/>
                </a:moveTo>
                <a:cubicBezTo>
                  <a:pt x="11924" y="3035"/>
                  <a:pt x="11892" y="3078"/>
                  <a:pt x="11857" y="3225"/>
                </a:cubicBezTo>
                <a:cubicBezTo>
                  <a:pt x="11836" y="3315"/>
                  <a:pt x="12002" y="3198"/>
                  <a:pt x="12005" y="3200"/>
                </a:cubicBezTo>
              </a:path>
              <a:path w="2457" h="671">
                <a:moveTo>
                  <a:pt x="12055" y="2902"/>
                </a:moveTo>
                <a:cubicBezTo>
                  <a:pt x="12075" y="2982"/>
                  <a:pt x="12105" y="3068"/>
                  <a:pt x="12129" y="3150"/>
                </a:cubicBezTo>
              </a:path>
              <a:path w="2457" h="671">
                <a:moveTo>
                  <a:pt x="12204" y="2877"/>
                </a:moveTo>
                <a:cubicBezTo>
                  <a:pt x="12245" y="2983"/>
                  <a:pt x="12269" y="3042"/>
                  <a:pt x="12278" y="3150"/>
                </a:cubicBezTo>
              </a:path>
              <a:path w="2457" h="671">
                <a:moveTo>
                  <a:pt x="12576" y="3125"/>
                </a:moveTo>
                <a:cubicBezTo>
                  <a:pt x="12540" y="3100"/>
                  <a:pt x="12444" y="2999"/>
                  <a:pt x="12402" y="3076"/>
                </a:cubicBezTo>
                <a:cubicBezTo>
                  <a:pt x="12383" y="3133"/>
                  <a:pt x="12375" y="3140"/>
                  <a:pt x="12378" y="3175"/>
                </a:cubicBezTo>
                <a:cubicBezTo>
                  <a:pt x="12442" y="3175"/>
                  <a:pt x="12442" y="3176"/>
                  <a:pt x="12502" y="3150"/>
                </a:cubicBezTo>
              </a:path>
              <a:path w="2457" h="671">
                <a:moveTo>
                  <a:pt x="12402" y="3150"/>
                </a:moveTo>
                <a:cubicBezTo>
                  <a:pt x="12486" y="3129"/>
                  <a:pt x="12505" y="3128"/>
                  <a:pt x="12551" y="3101"/>
                </a:cubicBezTo>
                <a:cubicBezTo>
                  <a:pt x="12532" y="3085"/>
                  <a:pt x="12426" y="2990"/>
                  <a:pt x="12402" y="3076"/>
                </a:cubicBezTo>
                <a:cubicBezTo>
                  <a:pt x="12346" y="3275"/>
                  <a:pt x="12544" y="3198"/>
                  <a:pt x="12626" y="3150"/>
                </a:cubicBezTo>
              </a:path>
              <a:path w="2457" h="671">
                <a:moveTo>
                  <a:pt x="12576" y="2778"/>
                </a:moveTo>
                <a:cubicBezTo>
                  <a:pt x="12620" y="2894"/>
                  <a:pt x="12657" y="3010"/>
                  <a:pt x="12700" y="3125"/>
                </a:cubicBezTo>
              </a:path>
              <a:path w="2457" h="671">
                <a:moveTo>
                  <a:pt x="12898" y="3001"/>
                </a:moveTo>
                <a:cubicBezTo>
                  <a:pt x="12854" y="2957"/>
                  <a:pt x="12844" y="2940"/>
                  <a:pt x="12799" y="2952"/>
                </a:cubicBezTo>
                <a:cubicBezTo>
                  <a:pt x="12784" y="2975"/>
                  <a:pt x="12702" y="3156"/>
                  <a:pt x="12750" y="3175"/>
                </a:cubicBezTo>
                <a:cubicBezTo>
                  <a:pt x="12816" y="3202"/>
                  <a:pt x="12799" y="3099"/>
                  <a:pt x="12799" y="3076"/>
                </a:cubicBezTo>
                <a:cubicBezTo>
                  <a:pt x="12834" y="3111"/>
                  <a:pt x="12847" y="3133"/>
                  <a:pt x="12849" y="3175"/>
                </a:cubicBezTo>
              </a:path>
              <a:path w="2457" h="671">
                <a:moveTo>
                  <a:pt x="12973" y="3026"/>
                </a:moveTo>
                <a:cubicBezTo>
                  <a:pt x="12918" y="3074"/>
                  <a:pt x="12896" y="3095"/>
                  <a:pt x="12874" y="3175"/>
                </a:cubicBezTo>
                <a:cubicBezTo>
                  <a:pt x="12957" y="3151"/>
                  <a:pt x="13036" y="3113"/>
                  <a:pt x="13022" y="3274"/>
                </a:cubicBezTo>
                <a:cubicBezTo>
                  <a:pt x="13012" y="3393"/>
                  <a:pt x="12860" y="3332"/>
                  <a:pt x="12799" y="3324"/>
                </a:cubicBezTo>
              </a:path>
              <a:path w="2457" h="671">
                <a:moveTo>
                  <a:pt x="13072" y="3076"/>
                </a:moveTo>
                <a:cubicBezTo>
                  <a:pt x="13105" y="2984"/>
                  <a:pt x="13086" y="2961"/>
                  <a:pt x="13171" y="2927"/>
                </a:cubicBezTo>
                <a:cubicBezTo>
                  <a:pt x="13171" y="3009"/>
                  <a:pt x="13178" y="3071"/>
                  <a:pt x="13196" y="3150"/>
                </a:cubicBezTo>
                <a:cubicBezTo>
                  <a:pt x="13292" y="2980"/>
                  <a:pt x="13287" y="3071"/>
                  <a:pt x="13395" y="2977"/>
                </a:cubicBezTo>
                <a:cubicBezTo>
                  <a:pt x="13411" y="2960"/>
                  <a:pt x="13428" y="2944"/>
                  <a:pt x="13444" y="29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32080" y="1241280"/>
            <a:ext cx="527040" cy="339840"/>
          </a:xfrm>
          <a:custGeom>
            <a:avLst/>
            <a:gdLst/>
            <a:ahLst/>
            <a:rect l="l" t="t" r="r" b="b"/>
            <a:pathLst>
              <a:path w="1465" h="943">
                <a:moveTo>
                  <a:pt x="8979" y="3547"/>
                </a:moveTo>
                <a:cubicBezTo>
                  <a:pt x="9119" y="3574"/>
                  <a:pt x="9077" y="3948"/>
                  <a:pt x="9079" y="4093"/>
                </a:cubicBezTo>
                <a:cubicBezTo>
                  <a:pt x="9079" y="4209"/>
                  <a:pt x="9079" y="4225"/>
                  <a:pt x="9079" y="4291"/>
                </a:cubicBezTo>
              </a:path>
              <a:path w="1465" h="943">
                <a:moveTo>
                  <a:pt x="9079" y="3522"/>
                </a:moveTo>
                <a:cubicBezTo>
                  <a:pt x="9153" y="3522"/>
                  <a:pt x="9205" y="3507"/>
                  <a:pt x="9277" y="3497"/>
                </a:cubicBezTo>
                <a:cubicBezTo>
                  <a:pt x="9382" y="3482"/>
                  <a:pt x="9498" y="3486"/>
                  <a:pt x="9599" y="3473"/>
                </a:cubicBezTo>
                <a:cubicBezTo>
                  <a:pt x="9678" y="3463"/>
                  <a:pt x="9742" y="3448"/>
                  <a:pt x="9823" y="3448"/>
                </a:cubicBezTo>
                <a:cubicBezTo>
                  <a:pt x="9924" y="3448"/>
                  <a:pt x="10393" y="3393"/>
                  <a:pt x="10443" y="3473"/>
                </a:cubicBezTo>
                <a:cubicBezTo>
                  <a:pt x="10475" y="3525"/>
                  <a:pt x="10425" y="3658"/>
                  <a:pt x="10418" y="3696"/>
                </a:cubicBezTo>
                <a:cubicBezTo>
                  <a:pt x="10392" y="3834"/>
                  <a:pt x="10418" y="4020"/>
                  <a:pt x="10443" y="4142"/>
                </a:cubicBezTo>
                <a:cubicBezTo>
                  <a:pt x="10454" y="4197"/>
                  <a:pt x="10454" y="4252"/>
                  <a:pt x="10393" y="4266"/>
                </a:cubicBezTo>
                <a:cubicBezTo>
                  <a:pt x="10342" y="4278"/>
                  <a:pt x="10294" y="4288"/>
                  <a:pt x="10244" y="4291"/>
                </a:cubicBezTo>
                <a:cubicBezTo>
                  <a:pt x="10108" y="4299"/>
                  <a:pt x="9977" y="4294"/>
                  <a:pt x="9847" y="4316"/>
                </a:cubicBezTo>
                <a:cubicBezTo>
                  <a:pt x="9785" y="4326"/>
                  <a:pt x="9735" y="4354"/>
                  <a:pt x="9674" y="4366"/>
                </a:cubicBezTo>
                <a:cubicBezTo>
                  <a:pt x="9620" y="4376"/>
                  <a:pt x="9553" y="4382"/>
                  <a:pt x="9500" y="4390"/>
                </a:cubicBezTo>
                <a:cubicBezTo>
                  <a:pt x="9406" y="4404"/>
                  <a:pt x="9307" y="4382"/>
                  <a:pt x="9227" y="4366"/>
                </a:cubicBezTo>
                <a:cubicBezTo>
                  <a:pt x="9168" y="4354"/>
                  <a:pt x="9138" y="4363"/>
                  <a:pt x="9079" y="4341"/>
                </a:cubicBezTo>
              </a:path>
              <a:path w="1465" h="943">
                <a:moveTo>
                  <a:pt x="9103" y="3820"/>
                </a:moveTo>
                <a:cubicBezTo>
                  <a:pt x="9181" y="3820"/>
                  <a:pt x="9209" y="3838"/>
                  <a:pt x="9252" y="3770"/>
                </a:cubicBezTo>
                <a:cubicBezTo>
                  <a:pt x="9272" y="3730"/>
                  <a:pt x="9281" y="3724"/>
                  <a:pt x="9277" y="3696"/>
                </a:cubicBezTo>
              </a:path>
              <a:path w="1465" h="943">
                <a:moveTo>
                  <a:pt x="10244" y="3473"/>
                </a:moveTo>
                <a:cubicBezTo>
                  <a:pt x="10256" y="3530"/>
                  <a:pt x="10284" y="3589"/>
                  <a:pt x="10294" y="3646"/>
                </a:cubicBezTo>
                <a:cubicBezTo>
                  <a:pt x="10309" y="3736"/>
                  <a:pt x="10344" y="3686"/>
                  <a:pt x="10418" y="3671"/>
                </a:cubicBezTo>
              </a:path>
              <a:path w="1465" h="943">
                <a:moveTo>
                  <a:pt x="10170" y="4266"/>
                </a:moveTo>
                <a:cubicBezTo>
                  <a:pt x="10170" y="4183"/>
                  <a:pt x="10170" y="4101"/>
                  <a:pt x="10170" y="4018"/>
                </a:cubicBezTo>
                <a:cubicBezTo>
                  <a:pt x="10261" y="4018"/>
                  <a:pt x="10352" y="4018"/>
                  <a:pt x="10443" y="4018"/>
                </a:cubicBezTo>
              </a:path>
              <a:path w="1465" h="943">
                <a:moveTo>
                  <a:pt x="9103" y="4192"/>
                </a:moveTo>
                <a:cubicBezTo>
                  <a:pt x="9095" y="4184"/>
                  <a:pt x="9087" y="4175"/>
                  <a:pt x="9079" y="4167"/>
                </a:cubicBezTo>
                <a:cubicBezTo>
                  <a:pt x="9144" y="4176"/>
                  <a:pt x="9259" y="4167"/>
                  <a:pt x="9277" y="4242"/>
                </a:cubicBezTo>
                <a:cubicBezTo>
                  <a:pt x="9277" y="4308"/>
                  <a:pt x="9277" y="4325"/>
                  <a:pt x="9277" y="4366"/>
                </a:cubicBezTo>
              </a:path>
              <a:path w="1465" h="943">
                <a:moveTo>
                  <a:pt x="9252" y="3671"/>
                </a:moveTo>
                <a:lnTo>
                  <a:pt x="9252" y="3671"/>
                </a:lnTo>
              </a:path>
              <a:path w="1465" h="943">
                <a:moveTo>
                  <a:pt x="9327" y="3621"/>
                </a:moveTo>
                <a:cubicBezTo>
                  <a:pt x="9354" y="3677"/>
                  <a:pt x="9368" y="3710"/>
                  <a:pt x="9376" y="37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60880" y="1000080"/>
            <a:ext cx="2332080" cy="519120"/>
          </a:xfrm>
          <a:custGeom>
            <a:avLst/>
            <a:gdLst/>
            <a:ahLst/>
            <a:rect l="l" t="t" r="r" b="b"/>
            <a:pathLst>
              <a:path w="6475" h="1440">
                <a:moveTo>
                  <a:pt x="11782" y="3497"/>
                </a:moveTo>
                <a:cubicBezTo>
                  <a:pt x="11862" y="3380"/>
                  <a:pt x="11694" y="3742"/>
                  <a:pt x="11683" y="3770"/>
                </a:cubicBezTo>
                <a:cubicBezTo>
                  <a:pt x="11625" y="3913"/>
                  <a:pt x="11584" y="4016"/>
                  <a:pt x="11584" y="4167"/>
                </a:cubicBezTo>
                <a:cubicBezTo>
                  <a:pt x="11584" y="4184"/>
                  <a:pt x="11584" y="4200"/>
                  <a:pt x="11584" y="4217"/>
                </a:cubicBezTo>
              </a:path>
              <a:path w="6475" h="1440">
                <a:moveTo>
                  <a:pt x="13097" y="3448"/>
                </a:moveTo>
                <a:cubicBezTo>
                  <a:pt x="13105" y="3440"/>
                  <a:pt x="13114" y="3431"/>
                  <a:pt x="13122" y="3423"/>
                </a:cubicBezTo>
                <a:cubicBezTo>
                  <a:pt x="13067" y="3505"/>
                  <a:pt x="13049" y="3607"/>
                  <a:pt x="12998" y="3696"/>
                </a:cubicBezTo>
                <a:cubicBezTo>
                  <a:pt x="12955" y="3771"/>
                  <a:pt x="12917" y="3846"/>
                  <a:pt x="12874" y="3919"/>
                </a:cubicBezTo>
                <a:cubicBezTo>
                  <a:pt x="12844" y="3970"/>
                  <a:pt x="12849" y="4012"/>
                  <a:pt x="12849" y="4068"/>
                </a:cubicBezTo>
              </a:path>
              <a:path w="6475" h="1440">
                <a:moveTo>
                  <a:pt x="11931" y="3497"/>
                </a:moveTo>
                <a:cubicBezTo>
                  <a:pt x="11915" y="3434"/>
                  <a:pt x="12048" y="3430"/>
                  <a:pt x="12129" y="3423"/>
                </a:cubicBezTo>
                <a:cubicBezTo>
                  <a:pt x="12248" y="3413"/>
                  <a:pt x="12359" y="3412"/>
                  <a:pt x="12477" y="3398"/>
                </a:cubicBezTo>
                <a:cubicBezTo>
                  <a:pt x="12554" y="3389"/>
                  <a:pt x="12635" y="3386"/>
                  <a:pt x="12700" y="3373"/>
                </a:cubicBezTo>
                <a:cubicBezTo>
                  <a:pt x="12843" y="3344"/>
                  <a:pt x="13026" y="3373"/>
                  <a:pt x="13171" y="3373"/>
                </a:cubicBezTo>
              </a:path>
              <a:path w="6475" h="1440">
                <a:moveTo>
                  <a:pt x="11559" y="4167"/>
                </a:moveTo>
                <a:cubicBezTo>
                  <a:pt x="11640" y="4167"/>
                  <a:pt x="11705" y="4146"/>
                  <a:pt x="11782" y="4142"/>
                </a:cubicBezTo>
                <a:cubicBezTo>
                  <a:pt x="11867" y="4138"/>
                  <a:pt x="11948" y="4123"/>
                  <a:pt x="12030" y="4118"/>
                </a:cubicBezTo>
                <a:cubicBezTo>
                  <a:pt x="12114" y="4113"/>
                  <a:pt x="12174" y="4112"/>
                  <a:pt x="12254" y="4093"/>
                </a:cubicBezTo>
                <a:cubicBezTo>
                  <a:pt x="12302" y="4082"/>
                  <a:pt x="12395" y="4097"/>
                  <a:pt x="12452" y="4093"/>
                </a:cubicBezTo>
                <a:cubicBezTo>
                  <a:pt x="12572" y="4085"/>
                  <a:pt x="12687" y="4098"/>
                  <a:pt x="12799" y="4118"/>
                </a:cubicBezTo>
                <a:cubicBezTo>
                  <a:pt x="12837" y="4125"/>
                  <a:pt x="12884" y="4118"/>
                  <a:pt x="12923" y="4118"/>
                </a:cubicBezTo>
              </a:path>
              <a:path w="6475" h="1440">
                <a:moveTo>
                  <a:pt x="14387" y="3522"/>
                </a:moveTo>
                <a:cubicBezTo>
                  <a:pt x="14364" y="3484"/>
                  <a:pt x="14362" y="3471"/>
                  <a:pt x="14362" y="3423"/>
                </a:cubicBezTo>
                <a:cubicBezTo>
                  <a:pt x="14362" y="3609"/>
                  <a:pt x="14361" y="3789"/>
                  <a:pt x="14337" y="3969"/>
                </a:cubicBezTo>
                <a:cubicBezTo>
                  <a:pt x="14337" y="4018"/>
                  <a:pt x="14337" y="4035"/>
                  <a:pt x="14337" y="4068"/>
                </a:cubicBezTo>
              </a:path>
              <a:path w="6475" h="1440">
                <a:moveTo>
                  <a:pt x="14387" y="3274"/>
                </a:moveTo>
                <a:cubicBezTo>
                  <a:pt x="14359" y="3302"/>
                  <a:pt x="14350" y="3316"/>
                  <a:pt x="14362" y="3349"/>
                </a:cubicBezTo>
                <a:cubicBezTo>
                  <a:pt x="14346" y="3237"/>
                  <a:pt x="14410" y="3294"/>
                  <a:pt x="14511" y="3299"/>
                </a:cubicBezTo>
                <a:cubicBezTo>
                  <a:pt x="14580" y="3302"/>
                  <a:pt x="14670" y="3337"/>
                  <a:pt x="14734" y="3324"/>
                </a:cubicBezTo>
                <a:cubicBezTo>
                  <a:pt x="14799" y="3310"/>
                  <a:pt x="14836" y="3299"/>
                  <a:pt x="14908" y="3299"/>
                </a:cubicBezTo>
                <a:cubicBezTo>
                  <a:pt x="14978" y="3299"/>
                  <a:pt x="15024" y="3291"/>
                  <a:pt x="15081" y="3274"/>
                </a:cubicBezTo>
                <a:cubicBezTo>
                  <a:pt x="15089" y="3274"/>
                  <a:pt x="15098" y="3274"/>
                  <a:pt x="15106" y="3274"/>
                </a:cubicBezTo>
                <a:cubicBezTo>
                  <a:pt x="15126" y="3348"/>
                  <a:pt x="15131" y="3397"/>
                  <a:pt x="15131" y="3473"/>
                </a:cubicBezTo>
                <a:cubicBezTo>
                  <a:pt x="15131" y="3563"/>
                  <a:pt x="15116" y="3639"/>
                  <a:pt x="15106" y="3721"/>
                </a:cubicBezTo>
                <a:cubicBezTo>
                  <a:pt x="15097" y="3790"/>
                  <a:pt x="15076" y="3933"/>
                  <a:pt x="15081" y="3994"/>
                </a:cubicBezTo>
                <a:cubicBezTo>
                  <a:pt x="15086" y="4050"/>
                  <a:pt x="15106" y="4104"/>
                  <a:pt x="15106" y="4167"/>
                </a:cubicBezTo>
                <a:cubicBezTo>
                  <a:pt x="15015" y="4167"/>
                  <a:pt x="14941" y="4179"/>
                  <a:pt x="14858" y="4192"/>
                </a:cubicBezTo>
                <a:cubicBezTo>
                  <a:pt x="14727" y="4213"/>
                  <a:pt x="14582" y="4194"/>
                  <a:pt x="14461" y="4217"/>
                </a:cubicBezTo>
                <a:cubicBezTo>
                  <a:pt x="14359" y="4236"/>
                  <a:pt x="14371" y="4198"/>
                  <a:pt x="14387" y="4118"/>
                </a:cubicBezTo>
              </a:path>
              <a:path w="6475" h="1440">
                <a:moveTo>
                  <a:pt x="14039" y="3101"/>
                </a:moveTo>
                <a:cubicBezTo>
                  <a:pt x="14039" y="3029"/>
                  <a:pt x="14000" y="2930"/>
                  <a:pt x="13915" y="2927"/>
                </a:cubicBezTo>
                <a:cubicBezTo>
                  <a:pt x="13795" y="2923"/>
                  <a:pt x="13797" y="2999"/>
                  <a:pt x="13742" y="3076"/>
                </a:cubicBezTo>
                <a:cubicBezTo>
                  <a:pt x="13849" y="3096"/>
                  <a:pt x="13952" y="3076"/>
                  <a:pt x="14015" y="3150"/>
                </a:cubicBezTo>
                <a:cubicBezTo>
                  <a:pt x="13922" y="3296"/>
                  <a:pt x="13839" y="3294"/>
                  <a:pt x="13667" y="3274"/>
                </a:cubicBezTo>
              </a:path>
              <a:path w="6475" h="1440">
                <a:moveTo>
                  <a:pt x="14238" y="2977"/>
                </a:moveTo>
                <a:cubicBezTo>
                  <a:pt x="14158" y="2977"/>
                  <a:pt x="14131" y="2981"/>
                  <a:pt x="14114" y="3051"/>
                </a:cubicBezTo>
                <a:cubicBezTo>
                  <a:pt x="14209" y="3147"/>
                  <a:pt x="14235" y="2913"/>
                  <a:pt x="14213" y="3150"/>
                </a:cubicBezTo>
                <a:cubicBezTo>
                  <a:pt x="14199" y="3301"/>
                  <a:pt x="14142" y="3432"/>
                  <a:pt x="14089" y="3572"/>
                </a:cubicBezTo>
                <a:cubicBezTo>
                  <a:pt x="14181" y="3475"/>
                  <a:pt x="14335" y="3376"/>
                  <a:pt x="14163" y="3299"/>
                </a:cubicBezTo>
              </a:path>
              <a:path w="6475" h="1440">
                <a:moveTo>
                  <a:pt x="14362" y="3001"/>
                </a:moveTo>
                <a:cubicBezTo>
                  <a:pt x="14386" y="3077"/>
                  <a:pt x="14404" y="3146"/>
                  <a:pt x="14412" y="3225"/>
                </a:cubicBezTo>
                <a:cubicBezTo>
                  <a:pt x="14453" y="3206"/>
                  <a:pt x="14623" y="3000"/>
                  <a:pt x="14536" y="3001"/>
                </a:cubicBezTo>
                <a:cubicBezTo>
                  <a:pt x="14467" y="3002"/>
                  <a:pt x="14550" y="3173"/>
                  <a:pt x="14560" y="3200"/>
                </a:cubicBezTo>
              </a:path>
              <a:path w="6475" h="1440">
                <a:moveTo>
                  <a:pt x="14908" y="3026"/>
                </a:moveTo>
                <a:cubicBezTo>
                  <a:pt x="14811" y="2971"/>
                  <a:pt x="14785" y="2962"/>
                  <a:pt x="14734" y="3076"/>
                </a:cubicBezTo>
                <a:cubicBezTo>
                  <a:pt x="14711" y="3143"/>
                  <a:pt x="14696" y="3164"/>
                  <a:pt x="14759" y="3175"/>
                </a:cubicBezTo>
                <a:cubicBezTo>
                  <a:pt x="14866" y="3111"/>
                  <a:pt x="14807" y="3056"/>
                  <a:pt x="14858" y="3101"/>
                </a:cubicBezTo>
                <a:cubicBezTo>
                  <a:pt x="14921" y="3143"/>
                  <a:pt x="14933" y="3159"/>
                  <a:pt x="14982" y="3150"/>
                </a:cubicBezTo>
              </a:path>
              <a:path w="6475" h="1440">
                <a:moveTo>
                  <a:pt x="15056" y="3001"/>
                </a:moveTo>
                <a:cubicBezTo>
                  <a:pt x="15078" y="3068"/>
                  <a:pt x="15083" y="3086"/>
                  <a:pt x="15106" y="3125"/>
                </a:cubicBezTo>
                <a:cubicBezTo>
                  <a:pt x="15122" y="2979"/>
                  <a:pt x="15144" y="2962"/>
                  <a:pt x="15255" y="2877"/>
                </a:cubicBezTo>
                <a:cubicBezTo>
                  <a:pt x="15263" y="2869"/>
                  <a:pt x="15272" y="2861"/>
                  <a:pt x="15280" y="2853"/>
                </a:cubicBezTo>
              </a:path>
              <a:path w="6475" h="1440">
                <a:moveTo>
                  <a:pt x="15429" y="2927"/>
                </a:moveTo>
                <a:cubicBezTo>
                  <a:pt x="15509" y="2904"/>
                  <a:pt x="15526" y="2882"/>
                  <a:pt x="15503" y="2803"/>
                </a:cubicBezTo>
                <a:cubicBezTo>
                  <a:pt x="15408" y="2789"/>
                  <a:pt x="15376" y="2889"/>
                  <a:pt x="15354" y="3001"/>
                </a:cubicBezTo>
                <a:cubicBezTo>
                  <a:pt x="15333" y="3105"/>
                  <a:pt x="15424" y="3082"/>
                  <a:pt x="15478" y="3076"/>
                </a:cubicBezTo>
                <a:cubicBezTo>
                  <a:pt x="15495" y="3076"/>
                  <a:pt x="15511" y="3076"/>
                  <a:pt x="15528" y="3076"/>
                </a:cubicBezTo>
              </a:path>
              <a:path w="6475" h="1440">
                <a:moveTo>
                  <a:pt x="16123" y="3547"/>
                </a:moveTo>
                <a:cubicBezTo>
                  <a:pt x="16162" y="3508"/>
                  <a:pt x="16163" y="3491"/>
                  <a:pt x="16197" y="3497"/>
                </a:cubicBezTo>
                <a:cubicBezTo>
                  <a:pt x="16148" y="3586"/>
                  <a:pt x="16111" y="3690"/>
                  <a:pt x="16049" y="3770"/>
                </a:cubicBezTo>
                <a:cubicBezTo>
                  <a:pt x="15982" y="3857"/>
                  <a:pt x="15894" y="3932"/>
                  <a:pt x="15825" y="4018"/>
                </a:cubicBezTo>
                <a:cubicBezTo>
                  <a:pt x="15801" y="4043"/>
                  <a:pt x="15793" y="4052"/>
                  <a:pt x="15776" y="4068"/>
                </a:cubicBezTo>
              </a:path>
              <a:path w="6475" h="1440">
                <a:moveTo>
                  <a:pt x="16272" y="3522"/>
                </a:moveTo>
                <a:cubicBezTo>
                  <a:pt x="16363" y="3499"/>
                  <a:pt x="16444" y="3536"/>
                  <a:pt x="16545" y="3547"/>
                </a:cubicBezTo>
                <a:cubicBezTo>
                  <a:pt x="16604" y="3553"/>
                  <a:pt x="16663" y="3568"/>
                  <a:pt x="16718" y="3572"/>
                </a:cubicBezTo>
                <a:cubicBezTo>
                  <a:pt x="16783" y="3576"/>
                  <a:pt x="16820" y="3597"/>
                  <a:pt x="16892" y="3597"/>
                </a:cubicBezTo>
                <a:cubicBezTo>
                  <a:pt x="16925" y="3597"/>
                  <a:pt x="16941" y="3597"/>
                  <a:pt x="16966" y="3597"/>
                </a:cubicBezTo>
              </a:path>
              <a:path w="6475" h="1440">
                <a:moveTo>
                  <a:pt x="15925" y="4118"/>
                </a:moveTo>
                <a:cubicBezTo>
                  <a:pt x="15877" y="4118"/>
                  <a:pt x="16142" y="4095"/>
                  <a:pt x="16173" y="4093"/>
                </a:cubicBezTo>
                <a:cubicBezTo>
                  <a:pt x="16279" y="4085"/>
                  <a:pt x="16354" y="4088"/>
                  <a:pt x="16446" y="4093"/>
                </a:cubicBezTo>
                <a:cubicBezTo>
                  <a:pt x="16486" y="4095"/>
                  <a:pt x="16530" y="4093"/>
                  <a:pt x="16570" y="4093"/>
                </a:cubicBezTo>
              </a:path>
              <a:path w="6475" h="1440">
                <a:moveTo>
                  <a:pt x="16892" y="3746"/>
                </a:moveTo>
                <a:cubicBezTo>
                  <a:pt x="16892" y="3711"/>
                  <a:pt x="16897" y="3693"/>
                  <a:pt x="16917" y="3671"/>
                </a:cubicBezTo>
                <a:cubicBezTo>
                  <a:pt x="16837" y="3787"/>
                  <a:pt x="16745" y="3899"/>
                  <a:pt x="16669" y="4018"/>
                </a:cubicBezTo>
                <a:cubicBezTo>
                  <a:pt x="16626" y="4086"/>
                  <a:pt x="16565" y="4123"/>
                  <a:pt x="16495" y="4167"/>
                </a:cubicBezTo>
              </a:path>
              <a:path w="6475" h="1440">
                <a:moveTo>
                  <a:pt x="15949" y="3051"/>
                </a:moveTo>
                <a:cubicBezTo>
                  <a:pt x="15923" y="3132"/>
                  <a:pt x="15915" y="3164"/>
                  <a:pt x="15925" y="3225"/>
                </a:cubicBezTo>
                <a:cubicBezTo>
                  <a:pt x="15969" y="3100"/>
                  <a:pt x="15978" y="3075"/>
                  <a:pt x="16098" y="3026"/>
                </a:cubicBezTo>
              </a:path>
              <a:path w="6475" h="1440">
                <a:moveTo>
                  <a:pt x="16321" y="2902"/>
                </a:moveTo>
                <a:cubicBezTo>
                  <a:pt x="16321" y="2993"/>
                  <a:pt x="16321" y="3084"/>
                  <a:pt x="16321" y="3175"/>
                </a:cubicBezTo>
                <a:cubicBezTo>
                  <a:pt x="16327" y="3109"/>
                  <a:pt x="16401" y="2943"/>
                  <a:pt x="16446" y="3101"/>
                </a:cubicBezTo>
                <a:cubicBezTo>
                  <a:pt x="16446" y="3167"/>
                  <a:pt x="16446" y="3184"/>
                  <a:pt x="16446" y="3225"/>
                </a:cubicBezTo>
              </a:path>
              <a:path w="6475" h="1440">
                <a:moveTo>
                  <a:pt x="16619" y="3101"/>
                </a:moveTo>
                <a:cubicBezTo>
                  <a:pt x="16598" y="3183"/>
                  <a:pt x="16590" y="3198"/>
                  <a:pt x="16594" y="3249"/>
                </a:cubicBezTo>
                <a:cubicBezTo>
                  <a:pt x="16633" y="3262"/>
                  <a:pt x="16841" y="3293"/>
                  <a:pt x="16768" y="3175"/>
                </a:cubicBezTo>
                <a:cubicBezTo>
                  <a:pt x="16711" y="3147"/>
                  <a:pt x="16688" y="3136"/>
                  <a:pt x="16644" y="3125"/>
                </a:cubicBezTo>
              </a:path>
              <a:path w="6475" h="1440">
                <a:moveTo>
                  <a:pt x="16818" y="3225"/>
                </a:moveTo>
                <a:cubicBezTo>
                  <a:pt x="16921" y="3356"/>
                  <a:pt x="16888" y="3040"/>
                  <a:pt x="16991" y="3225"/>
                </a:cubicBezTo>
                <a:cubicBezTo>
                  <a:pt x="16999" y="3258"/>
                  <a:pt x="17008" y="3291"/>
                  <a:pt x="17016" y="3324"/>
                </a:cubicBezTo>
                <a:cubicBezTo>
                  <a:pt x="17041" y="3172"/>
                  <a:pt x="17107" y="3133"/>
                  <a:pt x="17140" y="3324"/>
                </a:cubicBezTo>
                <a:cubicBezTo>
                  <a:pt x="17140" y="3349"/>
                  <a:pt x="17140" y="3373"/>
                  <a:pt x="17140" y="3398"/>
                </a:cubicBezTo>
              </a:path>
              <a:path w="6475" h="1440">
                <a:moveTo>
                  <a:pt x="17264" y="3001"/>
                </a:moveTo>
                <a:cubicBezTo>
                  <a:pt x="17248" y="3122"/>
                  <a:pt x="17239" y="3228"/>
                  <a:pt x="17239" y="3349"/>
                </a:cubicBezTo>
                <a:cubicBezTo>
                  <a:pt x="17241" y="3339"/>
                  <a:pt x="17340" y="3025"/>
                  <a:pt x="17388" y="3200"/>
                </a:cubicBezTo>
                <a:cubicBezTo>
                  <a:pt x="17443" y="3400"/>
                  <a:pt x="17301" y="3416"/>
                  <a:pt x="17165" y="3398"/>
                </a:cubicBezTo>
              </a:path>
              <a:path w="6475" h="1440">
                <a:moveTo>
                  <a:pt x="17562" y="3249"/>
                </a:moveTo>
                <a:cubicBezTo>
                  <a:pt x="17530" y="3408"/>
                  <a:pt x="17556" y="3522"/>
                  <a:pt x="17711" y="3324"/>
                </a:cubicBezTo>
                <a:cubicBezTo>
                  <a:pt x="17824" y="3180"/>
                  <a:pt x="17742" y="3280"/>
                  <a:pt x="17760" y="3423"/>
                </a:cubicBezTo>
              </a:path>
              <a:path w="6475" h="1440">
                <a:moveTo>
                  <a:pt x="18008" y="3175"/>
                </a:moveTo>
                <a:cubicBezTo>
                  <a:pt x="17954" y="3264"/>
                  <a:pt x="18074" y="3263"/>
                  <a:pt x="18033" y="3324"/>
                </a:cubicBezTo>
                <a:cubicBezTo>
                  <a:pt x="17976" y="3352"/>
                  <a:pt x="17953" y="3363"/>
                  <a:pt x="17909" y="33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33880" y="4875120"/>
            <a:ext cx="90360" cy="250920"/>
          </a:xfrm>
          <a:custGeom>
            <a:avLst/>
            <a:gdLst/>
            <a:ahLst/>
            <a:rect l="l" t="t" r="r" b="b"/>
            <a:pathLst>
              <a:path w="249" h="696">
                <a:moveTo>
                  <a:pt x="11733" y="13543"/>
                </a:moveTo>
                <a:cubicBezTo>
                  <a:pt x="11632" y="13543"/>
                  <a:pt x="11619" y="13581"/>
                  <a:pt x="11559" y="13667"/>
                </a:cubicBezTo>
                <a:cubicBezTo>
                  <a:pt x="11487" y="13771"/>
                  <a:pt x="11485" y="13842"/>
                  <a:pt x="11485" y="13965"/>
                </a:cubicBezTo>
                <a:cubicBezTo>
                  <a:pt x="11485" y="14050"/>
                  <a:pt x="11466" y="14161"/>
                  <a:pt x="11559" y="14213"/>
                </a:cubicBezTo>
                <a:cubicBezTo>
                  <a:pt x="11624" y="14235"/>
                  <a:pt x="11639" y="14243"/>
                  <a:pt x="11683" y="142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02080" y="4867200"/>
            <a:ext cx="46080" cy="268200"/>
          </a:xfrm>
          <a:custGeom>
            <a:avLst/>
            <a:gdLst/>
            <a:ahLst/>
            <a:rect l="l" t="t" r="r" b="b"/>
            <a:pathLst>
              <a:path w="125" h="745">
                <a:moveTo>
                  <a:pt x="12229" y="13519"/>
                </a:moveTo>
                <a:cubicBezTo>
                  <a:pt x="12316" y="13683"/>
                  <a:pt x="12349" y="13774"/>
                  <a:pt x="12353" y="13965"/>
                </a:cubicBezTo>
                <a:cubicBezTo>
                  <a:pt x="12356" y="14104"/>
                  <a:pt x="12315" y="14159"/>
                  <a:pt x="12229" y="142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25920" y="3956040"/>
            <a:ext cx="936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10096" y="10988"/>
                </a:moveTo>
                <a:lnTo>
                  <a:pt x="10096" y="10988"/>
                </a:lnTo>
              </a:path>
              <a:path w="26" h="150">
                <a:moveTo>
                  <a:pt x="10071" y="11137"/>
                </a:moveTo>
                <a:lnTo>
                  <a:pt x="10071" y="1113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0160" y="3143160"/>
            <a:ext cx="320760" cy="304920"/>
          </a:xfrm>
          <a:custGeom>
            <a:avLst/>
            <a:gdLst/>
            <a:ahLst/>
            <a:rect l="l" t="t" r="r" b="b"/>
            <a:pathLst>
              <a:path w="894" h="845">
                <a:moveTo>
                  <a:pt x="12204" y="8806"/>
                </a:moveTo>
                <a:lnTo>
                  <a:pt x="12204" y="8806"/>
                </a:lnTo>
              </a:path>
              <a:path w="894" h="845">
                <a:moveTo>
                  <a:pt x="12204" y="8781"/>
                </a:moveTo>
                <a:cubicBezTo>
                  <a:pt x="12153" y="8697"/>
                  <a:pt x="12072" y="8797"/>
                  <a:pt x="12055" y="8905"/>
                </a:cubicBezTo>
                <a:cubicBezTo>
                  <a:pt x="12029" y="9068"/>
                  <a:pt x="12082" y="9293"/>
                  <a:pt x="12129" y="9451"/>
                </a:cubicBezTo>
                <a:cubicBezTo>
                  <a:pt x="12159" y="9550"/>
                  <a:pt x="12268" y="9563"/>
                  <a:pt x="12353" y="9575"/>
                </a:cubicBezTo>
              </a:path>
              <a:path w="894" h="845">
                <a:moveTo>
                  <a:pt x="12725" y="8781"/>
                </a:moveTo>
                <a:cubicBezTo>
                  <a:pt x="12865" y="8897"/>
                  <a:pt x="12948" y="9032"/>
                  <a:pt x="12948" y="9227"/>
                </a:cubicBezTo>
                <a:cubicBezTo>
                  <a:pt x="12948" y="9372"/>
                  <a:pt x="12883" y="9447"/>
                  <a:pt x="12799" y="95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0840" y="3643200"/>
            <a:ext cx="19080" cy="1800"/>
          </a:xfrm>
          <a:custGeom>
            <a:avLst/>
            <a:gdLst/>
            <a:ahLst/>
            <a:rect l="l" t="t" r="r" b="b"/>
            <a:pathLst>
              <a:path w="51" h="1">
                <a:moveTo>
                  <a:pt x="13419" y="10120"/>
                </a:moveTo>
                <a:cubicBezTo>
                  <a:pt x="13436" y="10120"/>
                  <a:pt x="13452" y="10120"/>
                  <a:pt x="13469" y="101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12960" y="2340000"/>
            <a:ext cx="187200" cy="3492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5035" y="6598"/>
                </a:moveTo>
                <a:cubicBezTo>
                  <a:pt x="5043" y="6590"/>
                  <a:pt x="5052" y="6581"/>
                  <a:pt x="5060" y="6573"/>
                </a:cubicBezTo>
              </a:path>
              <a:path w="522" h="100">
                <a:moveTo>
                  <a:pt x="5110" y="6548"/>
                </a:moveTo>
                <a:cubicBezTo>
                  <a:pt x="5178" y="6548"/>
                  <a:pt x="5217" y="6540"/>
                  <a:pt x="5283" y="6524"/>
                </a:cubicBezTo>
              </a:path>
              <a:path w="522" h="100">
                <a:moveTo>
                  <a:pt x="5482" y="6499"/>
                </a:moveTo>
                <a:cubicBezTo>
                  <a:pt x="5507" y="6499"/>
                  <a:pt x="5531" y="6499"/>
                  <a:pt x="5556" y="64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41720" y="2320920"/>
            <a:ext cx="172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6226" y="6449"/>
                </a:moveTo>
                <a:cubicBezTo>
                  <a:pt x="6243" y="6457"/>
                  <a:pt x="6259" y="6466"/>
                  <a:pt x="6276" y="64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7920" y="2340000"/>
            <a:ext cx="196920" cy="17280"/>
          </a:xfrm>
          <a:custGeom>
            <a:avLst/>
            <a:gdLst/>
            <a:ahLst/>
            <a:rect l="l" t="t" r="r" b="b"/>
            <a:pathLst>
              <a:path w="546" h="50">
                <a:moveTo>
                  <a:pt x="6524" y="6548"/>
                </a:moveTo>
                <a:cubicBezTo>
                  <a:pt x="6575" y="6548"/>
                  <a:pt x="6593" y="6547"/>
                  <a:pt x="6623" y="6524"/>
                </a:cubicBezTo>
              </a:path>
              <a:path w="546" h="50">
                <a:moveTo>
                  <a:pt x="6821" y="6548"/>
                </a:moveTo>
                <a:cubicBezTo>
                  <a:pt x="6879" y="6529"/>
                  <a:pt x="6886" y="6521"/>
                  <a:pt x="6921" y="6524"/>
                </a:cubicBezTo>
              </a:path>
              <a:path w="546" h="50">
                <a:moveTo>
                  <a:pt x="7069" y="6499"/>
                </a:moveTo>
                <a:lnTo>
                  <a:pt x="7069" y="649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33760" y="2357280"/>
            <a:ext cx="196920" cy="9720"/>
          </a:xfrm>
          <a:custGeom>
            <a:avLst/>
            <a:gdLst/>
            <a:ahLst/>
            <a:rect l="l" t="t" r="r" b="b"/>
            <a:pathLst>
              <a:path w="547" h="26">
                <a:moveTo>
                  <a:pt x="7317" y="6573"/>
                </a:moveTo>
                <a:cubicBezTo>
                  <a:pt x="7334" y="6573"/>
                  <a:pt x="7350" y="6573"/>
                  <a:pt x="7367" y="6573"/>
                </a:cubicBezTo>
              </a:path>
              <a:path w="547" h="26">
                <a:moveTo>
                  <a:pt x="7516" y="6548"/>
                </a:moveTo>
                <a:cubicBezTo>
                  <a:pt x="7541" y="6556"/>
                  <a:pt x="7565" y="6565"/>
                  <a:pt x="7590" y="6573"/>
                </a:cubicBezTo>
              </a:path>
              <a:path w="547" h="26">
                <a:moveTo>
                  <a:pt x="7789" y="6548"/>
                </a:moveTo>
                <a:cubicBezTo>
                  <a:pt x="7814" y="6556"/>
                  <a:pt x="7838" y="6565"/>
                  <a:pt x="7863" y="65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55960" y="2367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210" y="6573"/>
                </a:moveTo>
                <a:lnTo>
                  <a:pt x="8210" y="657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24160" y="2384280"/>
            <a:ext cx="88920" cy="9720"/>
          </a:xfrm>
          <a:custGeom>
            <a:avLst/>
            <a:gdLst/>
            <a:ahLst/>
            <a:rect l="l" t="t" r="r" b="b"/>
            <a:pathLst>
              <a:path w="250" h="26">
                <a:moveTo>
                  <a:pt x="8954" y="6623"/>
                </a:moveTo>
                <a:cubicBezTo>
                  <a:pt x="9045" y="6623"/>
                  <a:pt x="9118" y="6620"/>
                  <a:pt x="9203" y="66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93960" y="4483080"/>
            <a:ext cx="27000" cy="142920"/>
          </a:xfrm>
          <a:custGeom>
            <a:avLst/>
            <a:gdLst/>
            <a:ahLst/>
            <a:rect l="l" t="t" r="r" b="b"/>
            <a:pathLst>
              <a:path w="75" h="398">
                <a:moveTo>
                  <a:pt x="5259" y="12849"/>
                </a:moveTo>
                <a:cubicBezTo>
                  <a:pt x="5285" y="12767"/>
                  <a:pt x="5295" y="12734"/>
                  <a:pt x="5308" y="12675"/>
                </a:cubicBezTo>
              </a:path>
              <a:path w="75" h="398">
                <a:moveTo>
                  <a:pt x="5333" y="12526"/>
                </a:moveTo>
                <a:cubicBezTo>
                  <a:pt x="5333" y="12485"/>
                  <a:pt x="5333" y="12477"/>
                  <a:pt x="5333" y="124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19160" y="4367160"/>
            <a:ext cx="180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5333" y="12154"/>
                </a:moveTo>
                <a:cubicBezTo>
                  <a:pt x="5333" y="12146"/>
                  <a:pt x="5333" y="12137"/>
                  <a:pt x="5333" y="1212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28880" y="4259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358" y="11832"/>
                </a:moveTo>
                <a:lnTo>
                  <a:pt x="5358" y="1183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28880" y="4143240"/>
            <a:ext cx="1440" cy="17640"/>
          </a:xfrm>
          <a:custGeom>
            <a:avLst/>
            <a:gdLst/>
            <a:ahLst/>
            <a:rect l="l" t="t" r="r" b="b"/>
            <a:pathLst>
              <a:path w="1" h="51">
                <a:moveTo>
                  <a:pt x="5358" y="11559"/>
                </a:moveTo>
                <a:cubicBezTo>
                  <a:pt x="5358" y="11542"/>
                  <a:pt x="5358" y="11526"/>
                  <a:pt x="5358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38240" y="40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383" y="11112"/>
                </a:moveTo>
                <a:lnTo>
                  <a:pt x="5383" y="1111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46160" y="3875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407" y="10765"/>
                </a:moveTo>
                <a:lnTo>
                  <a:pt x="5407" y="1076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38240" y="3732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383" y="10368"/>
                </a:moveTo>
                <a:lnTo>
                  <a:pt x="5383" y="10368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28880" y="3625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358" y="10071"/>
                </a:moveTo>
                <a:lnTo>
                  <a:pt x="5358" y="10071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11240" y="3500280"/>
            <a:ext cx="1800" cy="17640"/>
          </a:xfrm>
          <a:custGeom>
            <a:avLst/>
            <a:gdLst/>
            <a:ahLst/>
            <a:rect l="l" t="t" r="r" b="b"/>
            <a:pathLst>
              <a:path w="1" h="51">
                <a:moveTo>
                  <a:pt x="5308" y="9773"/>
                </a:moveTo>
                <a:cubicBezTo>
                  <a:pt x="5308" y="9756"/>
                  <a:pt x="5308" y="9740"/>
                  <a:pt x="5308" y="97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19160" y="3394080"/>
            <a:ext cx="1800" cy="17280"/>
          </a:xfrm>
          <a:custGeom>
            <a:avLst/>
            <a:gdLst/>
            <a:ahLst/>
            <a:rect l="l" t="t" r="r" b="b"/>
            <a:pathLst>
              <a:path w="1" h="50">
                <a:moveTo>
                  <a:pt x="5333" y="9475"/>
                </a:moveTo>
                <a:cubicBezTo>
                  <a:pt x="5333" y="9459"/>
                  <a:pt x="5333" y="9442"/>
                  <a:pt x="5333" y="94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38240" y="329580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5383" y="9178"/>
                </a:moveTo>
                <a:cubicBezTo>
                  <a:pt x="5383" y="9170"/>
                  <a:pt x="5383" y="9161"/>
                  <a:pt x="5383" y="91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38240" y="3197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383" y="8880"/>
                </a:moveTo>
                <a:lnTo>
                  <a:pt x="5383" y="8880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38240" y="3036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383" y="8434"/>
                </a:moveTo>
                <a:lnTo>
                  <a:pt x="5383" y="843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38240" y="2946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383" y="8186"/>
                </a:moveTo>
                <a:lnTo>
                  <a:pt x="5383" y="8186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38240" y="283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383" y="7863"/>
                </a:moveTo>
                <a:lnTo>
                  <a:pt x="5383" y="786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93960" y="2330280"/>
            <a:ext cx="17280" cy="349560"/>
          </a:xfrm>
          <a:custGeom>
            <a:avLst/>
            <a:gdLst/>
            <a:ahLst/>
            <a:rect l="l" t="t" r="r" b="b"/>
            <a:pathLst>
              <a:path w="50" h="968">
                <a:moveTo>
                  <a:pt x="5308" y="7441"/>
                </a:moveTo>
                <a:lnTo>
                  <a:pt x="5308" y="7441"/>
                </a:lnTo>
              </a:path>
              <a:path w="50" h="968">
                <a:moveTo>
                  <a:pt x="5308" y="7243"/>
                </a:moveTo>
                <a:lnTo>
                  <a:pt x="5308" y="7243"/>
                </a:lnTo>
              </a:path>
              <a:path w="50" h="968">
                <a:moveTo>
                  <a:pt x="5308" y="7020"/>
                </a:moveTo>
                <a:cubicBezTo>
                  <a:pt x="5308" y="6995"/>
                  <a:pt x="5308" y="6970"/>
                  <a:pt x="5308" y="6945"/>
                </a:cubicBezTo>
              </a:path>
              <a:path w="50" h="968">
                <a:moveTo>
                  <a:pt x="5283" y="6846"/>
                </a:moveTo>
                <a:cubicBezTo>
                  <a:pt x="5283" y="6757"/>
                  <a:pt x="5289" y="6681"/>
                  <a:pt x="5259" y="6598"/>
                </a:cubicBezTo>
              </a:path>
              <a:path w="50" h="968">
                <a:moveTo>
                  <a:pt x="5283" y="6474"/>
                </a:moveTo>
                <a:lnTo>
                  <a:pt x="5283" y="647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0200" y="6848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195" y="19025"/>
                </a:moveTo>
                <a:lnTo>
                  <a:pt x="10195" y="1902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38760" y="6848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939" y="19025"/>
                </a:moveTo>
                <a:lnTo>
                  <a:pt x="10939" y="1902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05800" y="2347920"/>
            <a:ext cx="46080" cy="81000"/>
          </a:xfrm>
          <a:custGeom>
            <a:avLst/>
            <a:gdLst/>
            <a:ahLst/>
            <a:rect l="l" t="t" r="r" b="b"/>
            <a:pathLst>
              <a:path w="125" h="224">
                <a:moveTo>
                  <a:pt x="21530" y="6524"/>
                </a:moveTo>
                <a:lnTo>
                  <a:pt x="21530" y="6524"/>
                </a:lnTo>
              </a:path>
              <a:path w="125" h="224">
                <a:moveTo>
                  <a:pt x="21406" y="6648"/>
                </a:moveTo>
                <a:cubicBezTo>
                  <a:pt x="21406" y="6681"/>
                  <a:pt x="21406" y="6714"/>
                  <a:pt x="21406" y="674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05800" y="256212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21406" y="7119"/>
                </a:moveTo>
                <a:cubicBezTo>
                  <a:pt x="21406" y="7136"/>
                  <a:pt x="21406" y="7152"/>
                  <a:pt x="21406" y="71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88160" y="2741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357" y="7615"/>
                </a:moveTo>
                <a:lnTo>
                  <a:pt x="21357" y="761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24880" y="2867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456" y="7962"/>
                </a:moveTo>
                <a:lnTo>
                  <a:pt x="21456" y="796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78800" y="3348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332" y="9302"/>
                </a:moveTo>
                <a:lnTo>
                  <a:pt x="21332" y="930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70880" y="3483000"/>
            <a:ext cx="1440" cy="17280"/>
          </a:xfrm>
          <a:custGeom>
            <a:avLst/>
            <a:gdLst/>
            <a:ahLst/>
            <a:rect l="l" t="t" r="r" b="b"/>
            <a:pathLst>
              <a:path w="1" h="50">
                <a:moveTo>
                  <a:pt x="21307" y="9674"/>
                </a:moveTo>
                <a:cubicBezTo>
                  <a:pt x="21307" y="9690"/>
                  <a:pt x="21307" y="9707"/>
                  <a:pt x="21307" y="97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4160" y="3670200"/>
            <a:ext cx="1800" cy="36720"/>
          </a:xfrm>
          <a:custGeom>
            <a:avLst/>
            <a:gdLst/>
            <a:ahLst/>
            <a:rect l="l" t="t" r="r" b="b"/>
            <a:pathLst>
              <a:path w="1" h="100">
                <a:moveTo>
                  <a:pt x="21208" y="10195"/>
                </a:moveTo>
                <a:cubicBezTo>
                  <a:pt x="21208" y="10244"/>
                  <a:pt x="21208" y="10261"/>
                  <a:pt x="21208" y="102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16880" y="3857760"/>
            <a:ext cx="936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21158" y="10716"/>
                </a:moveTo>
                <a:cubicBezTo>
                  <a:pt x="21158" y="10805"/>
                  <a:pt x="21156" y="10859"/>
                  <a:pt x="21183" y="109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72240" y="4098960"/>
            <a:ext cx="17640" cy="71280"/>
          </a:xfrm>
          <a:custGeom>
            <a:avLst/>
            <a:gdLst/>
            <a:ahLst/>
            <a:rect l="l" t="t" r="r" b="b"/>
            <a:pathLst>
              <a:path w="51" h="200">
                <a:moveTo>
                  <a:pt x="21084" y="11385"/>
                </a:moveTo>
                <a:cubicBezTo>
                  <a:pt x="21063" y="11457"/>
                  <a:pt x="21043" y="11514"/>
                  <a:pt x="21034" y="115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7960" y="4375080"/>
            <a:ext cx="9360" cy="135000"/>
          </a:xfrm>
          <a:custGeom>
            <a:avLst/>
            <a:gdLst/>
            <a:ahLst/>
            <a:rect l="l" t="t" r="r" b="b"/>
            <a:pathLst>
              <a:path w="26" h="373">
                <a:moveTo>
                  <a:pt x="20935" y="12154"/>
                </a:moveTo>
                <a:lnTo>
                  <a:pt x="20935" y="12154"/>
                </a:lnTo>
              </a:path>
              <a:path w="26" h="373">
                <a:moveTo>
                  <a:pt x="20910" y="12378"/>
                </a:moveTo>
                <a:cubicBezTo>
                  <a:pt x="20910" y="12394"/>
                  <a:pt x="20910" y="12411"/>
                  <a:pt x="20910" y="12427"/>
                </a:cubicBezTo>
              </a:path>
              <a:path w="26" h="373">
                <a:moveTo>
                  <a:pt x="20935" y="12477"/>
                </a:moveTo>
                <a:cubicBezTo>
                  <a:pt x="20935" y="12493"/>
                  <a:pt x="20935" y="12510"/>
                  <a:pt x="20935" y="125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4960" y="4633920"/>
            <a:ext cx="144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20985" y="12874"/>
                </a:moveTo>
                <a:lnTo>
                  <a:pt x="20985" y="12874"/>
                </a:lnTo>
              </a:path>
              <a:path w="1" h="50">
                <a:moveTo>
                  <a:pt x="20985" y="12923"/>
                </a:moveTo>
                <a:lnTo>
                  <a:pt x="20985" y="1292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69040" y="4599000"/>
            <a:ext cx="1482840" cy="54000"/>
          </a:xfrm>
          <a:custGeom>
            <a:avLst/>
            <a:gdLst/>
            <a:ahLst/>
            <a:rect l="l" t="t" r="r" b="b"/>
            <a:pathLst>
              <a:path w="4118" h="150">
                <a:moveTo>
                  <a:pt x="17413" y="12923"/>
                </a:moveTo>
                <a:cubicBezTo>
                  <a:pt x="17517" y="12888"/>
                  <a:pt x="17623" y="12898"/>
                  <a:pt x="17735" y="12898"/>
                </a:cubicBezTo>
                <a:cubicBezTo>
                  <a:pt x="17841" y="12898"/>
                  <a:pt x="17934" y="12919"/>
                  <a:pt x="18033" y="12923"/>
                </a:cubicBezTo>
                <a:cubicBezTo>
                  <a:pt x="18162" y="12929"/>
                  <a:pt x="18279" y="12910"/>
                  <a:pt x="18405" y="12898"/>
                </a:cubicBezTo>
                <a:cubicBezTo>
                  <a:pt x="18521" y="12887"/>
                  <a:pt x="18642" y="12893"/>
                  <a:pt x="18752" y="12923"/>
                </a:cubicBezTo>
              </a:path>
              <a:path w="4118" h="150">
                <a:moveTo>
                  <a:pt x="19224" y="12874"/>
                </a:moveTo>
                <a:cubicBezTo>
                  <a:pt x="19361" y="12840"/>
                  <a:pt x="19501" y="12771"/>
                  <a:pt x="19645" y="12799"/>
                </a:cubicBezTo>
                <a:cubicBezTo>
                  <a:pt x="19670" y="12807"/>
                  <a:pt x="19695" y="12816"/>
                  <a:pt x="19720" y="12824"/>
                </a:cubicBezTo>
              </a:path>
              <a:path w="4118" h="150">
                <a:moveTo>
                  <a:pt x="19993" y="12824"/>
                </a:moveTo>
                <a:cubicBezTo>
                  <a:pt x="20092" y="12857"/>
                  <a:pt x="20161" y="12835"/>
                  <a:pt x="20265" y="12824"/>
                </a:cubicBezTo>
              </a:path>
              <a:path w="4118" h="150">
                <a:moveTo>
                  <a:pt x="20687" y="12799"/>
                </a:moveTo>
                <a:lnTo>
                  <a:pt x="20687" y="12799"/>
                </a:lnTo>
              </a:path>
              <a:path w="4118" h="150">
                <a:moveTo>
                  <a:pt x="21109" y="12774"/>
                </a:moveTo>
                <a:cubicBezTo>
                  <a:pt x="21232" y="12774"/>
                  <a:pt x="21342" y="12773"/>
                  <a:pt x="21456" y="12799"/>
                </a:cubicBezTo>
                <a:cubicBezTo>
                  <a:pt x="21491" y="12799"/>
                  <a:pt x="21508" y="12804"/>
                  <a:pt x="21530" y="128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69160" y="3232080"/>
            <a:ext cx="152640" cy="2779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21580" y="8979"/>
                </a:moveTo>
                <a:cubicBezTo>
                  <a:pt x="21622" y="9209"/>
                  <a:pt x="21660" y="9439"/>
                  <a:pt x="21679" y="9674"/>
                </a:cubicBezTo>
                <a:cubicBezTo>
                  <a:pt x="21679" y="9699"/>
                  <a:pt x="21679" y="9723"/>
                  <a:pt x="21679" y="9748"/>
                </a:cubicBezTo>
                <a:cubicBezTo>
                  <a:pt x="21662" y="9592"/>
                  <a:pt x="21645" y="9336"/>
                  <a:pt x="21803" y="9227"/>
                </a:cubicBezTo>
                <a:cubicBezTo>
                  <a:pt x="21828" y="9227"/>
                  <a:pt x="21853" y="9227"/>
                  <a:pt x="21878" y="9227"/>
                </a:cubicBezTo>
                <a:cubicBezTo>
                  <a:pt x="21973" y="9396"/>
                  <a:pt x="21993" y="9529"/>
                  <a:pt x="22002" y="97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bjective:  Students will find the area of a parallelogram</a:t>
            </a: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 Area of a Parallelogram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848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= base    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 b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= 5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ght = 2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(5)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666880" y="2057400"/>
          <a:ext cx="20340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057400"/>
                    <a:ext cx="2034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600200" y="4952880"/>
          <a:ext cx="34308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952880"/>
                    <a:ext cx="3430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800600" y="2514600"/>
            <a:ext cx="350532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(10)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3657600"/>
            <a:ext cx="2209680" cy="1143000"/>
          </a:xfrm>
          <a:prstGeom prst="parallelogram">
            <a:avLst>
              <a:gd name="adj" fmla="val 4833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715000" y="6019920"/>
          <a:ext cx="35568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6019920"/>
                    <a:ext cx="35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116080" y="6848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879" y="19025"/>
                </a:moveTo>
                <a:lnTo>
                  <a:pt x="5879" y="1902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16040" y="295200"/>
            <a:ext cx="830160" cy="392040"/>
          </a:xfrm>
          <a:custGeom>
            <a:avLst/>
            <a:gdLst/>
            <a:ahLst/>
            <a:rect l="l" t="t" r="r" b="b"/>
            <a:pathLst>
              <a:path w="2307" h="1092">
                <a:moveTo>
                  <a:pt x="4986" y="918"/>
                </a:moveTo>
                <a:cubicBezTo>
                  <a:pt x="4863" y="1174"/>
                  <a:pt x="4746" y="1466"/>
                  <a:pt x="4564" y="1687"/>
                </a:cubicBezTo>
                <a:cubicBezTo>
                  <a:pt x="4539" y="1703"/>
                  <a:pt x="4515" y="1720"/>
                  <a:pt x="4490" y="1736"/>
                </a:cubicBezTo>
                <a:cubicBezTo>
                  <a:pt x="4578" y="1483"/>
                  <a:pt x="4683" y="1222"/>
                  <a:pt x="4862" y="1017"/>
                </a:cubicBezTo>
                <a:cubicBezTo>
                  <a:pt x="4993" y="908"/>
                  <a:pt x="5024" y="881"/>
                  <a:pt x="5110" y="819"/>
                </a:cubicBezTo>
                <a:cubicBezTo>
                  <a:pt x="5220" y="993"/>
                  <a:pt x="5202" y="1214"/>
                  <a:pt x="5159" y="1414"/>
                </a:cubicBezTo>
                <a:cubicBezTo>
                  <a:pt x="5120" y="1594"/>
                  <a:pt x="5023" y="1742"/>
                  <a:pt x="4961" y="1910"/>
                </a:cubicBezTo>
              </a:path>
              <a:path w="2307" h="1092">
                <a:moveTo>
                  <a:pt x="4688" y="1463"/>
                </a:moveTo>
                <a:cubicBezTo>
                  <a:pt x="4862" y="1463"/>
                  <a:pt x="5035" y="1463"/>
                  <a:pt x="5209" y="1463"/>
                </a:cubicBezTo>
              </a:path>
              <a:path w="2307" h="1092">
                <a:moveTo>
                  <a:pt x="5333" y="1488"/>
                </a:moveTo>
                <a:cubicBezTo>
                  <a:pt x="5354" y="1624"/>
                  <a:pt x="5380" y="1761"/>
                  <a:pt x="5333" y="1885"/>
                </a:cubicBezTo>
                <a:cubicBezTo>
                  <a:pt x="5412" y="1688"/>
                  <a:pt x="5445" y="1569"/>
                  <a:pt x="5655" y="1488"/>
                </a:cubicBezTo>
                <a:cubicBezTo>
                  <a:pt x="5746" y="1465"/>
                  <a:pt x="5769" y="1457"/>
                  <a:pt x="5829" y="1463"/>
                </a:cubicBezTo>
              </a:path>
              <a:path w="2307" h="1092">
                <a:moveTo>
                  <a:pt x="5829" y="1687"/>
                </a:moveTo>
                <a:cubicBezTo>
                  <a:pt x="5913" y="1687"/>
                  <a:pt x="6034" y="1704"/>
                  <a:pt x="6102" y="1637"/>
                </a:cubicBezTo>
                <a:cubicBezTo>
                  <a:pt x="6127" y="1588"/>
                  <a:pt x="6136" y="1571"/>
                  <a:pt x="6152" y="1538"/>
                </a:cubicBezTo>
                <a:cubicBezTo>
                  <a:pt x="5977" y="1494"/>
                  <a:pt x="5811" y="1480"/>
                  <a:pt x="5755" y="1712"/>
                </a:cubicBezTo>
                <a:cubicBezTo>
                  <a:pt x="5710" y="1899"/>
                  <a:pt x="5827" y="1871"/>
                  <a:pt x="5953" y="1885"/>
                </a:cubicBezTo>
              </a:path>
              <a:path w="2307" h="1092">
                <a:moveTo>
                  <a:pt x="6796" y="1612"/>
                </a:moveTo>
                <a:cubicBezTo>
                  <a:pt x="6604" y="1539"/>
                  <a:pt x="6353" y="1525"/>
                  <a:pt x="6251" y="1786"/>
                </a:cubicBezTo>
                <a:cubicBezTo>
                  <a:pt x="6259" y="1819"/>
                  <a:pt x="6268" y="1852"/>
                  <a:pt x="6276" y="1885"/>
                </a:cubicBezTo>
                <a:cubicBezTo>
                  <a:pt x="6488" y="1885"/>
                  <a:pt x="6568" y="1531"/>
                  <a:pt x="6772" y="1588"/>
                </a:cubicBezTo>
                <a:cubicBezTo>
                  <a:pt x="6865" y="1614"/>
                  <a:pt x="6756" y="1772"/>
                  <a:pt x="6796" y="18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0040" y="455760"/>
            <a:ext cx="285840" cy="214200"/>
          </a:xfrm>
          <a:custGeom>
            <a:avLst/>
            <a:gdLst/>
            <a:ahLst/>
            <a:rect l="l" t="t" r="r" b="b"/>
            <a:pathLst>
              <a:path w="795" h="596">
                <a:moveTo>
                  <a:pt x="7913" y="1563"/>
                </a:moveTo>
                <a:cubicBezTo>
                  <a:pt x="7888" y="1686"/>
                  <a:pt x="7880" y="1727"/>
                  <a:pt x="7888" y="1811"/>
                </a:cubicBezTo>
              </a:path>
              <a:path w="795" h="596">
                <a:moveTo>
                  <a:pt x="7938" y="1265"/>
                </a:moveTo>
                <a:lnTo>
                  <a:pt x="7938" y="1265"/>
                </a:lnTo>
              </a:path>
              <a:path w="795" h="596">
                <a:moveTo>
                  <a:pt x="8607" y="1463"/>
                </a:moveTo>
                <a:cubicBezTo>
                  <a:pt x="8521" y="1476"/>
                  <a:pt x="8464" y="1498"/>
                  <a:pt x="8384" y="1538"/>
                </a:cubicBezTo>
                <a:cubicBezTo>
                  <a:pt x="8412" y="1564"/>
                  <a:pt x="8746" y="1766"/>
                  <a:pt x="8682" y="1811"/>
                </a:cubicBezTo>
                <a:cubicBezTo>
                  <a:pt x="8512" y="1867"/>
                  <a:pt x="8440" y="1881"/>
                  <a:pt x="8310" y="18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73280" y="374760"/>
            <a:ext cx="920880" cy="304560"/>
          </a:xfrm>
          <a:custGeom>
            <a:avLst/>
            <a:gdLst/>
            <a:ahLst/>
            <a:rect l="l" t="t" r="r" b="b"/>
            <a:pathLst>
              <a:path w="2556" h="844">
                <a:moveTo>
                  <a:pt x="9748" y="1364"/>
                </a:moveTo>
                <a:cubicBezTo>
                  <a:pt x="9683" y="1505"/>
                  <a:pt x="9649" y="1635"/>
                  <a:pt x="9674" y="1786"/>
                </a:cubicBezTo>
                <a:cubicBezTo>
                  <a:pt x="9845" y="1747"/>
                  <a:pt x="9998" y="1614"/>
                  <a:pt x="10071" y="1439"/>
                </a:cubicBezTo>
                <a:cubicBezTo>
                  <a:pt x="10119" y="1325"/>
                  <a:pt x="10052" y="1656"/>
                  <a:pt x="10071" y="1786"/>
                </a:cubicBezTo>
              </a:path>
              <a:path w="2556" h="844">
                <a:moveTo>
                  <a:pt x="10319" y="1612"/>
                </a:moveTo>
                <a:cubicBezTo>
                  <a:pt x="10301" y="1703"/>
                  <a:pt x="10292" y="1710"/>
                  <a:pt x="10294" y="1761"/>
                </a:cubicBezTo>
                <a:cubicBezTo>
                  <a:pt x="10320" y="1675"/>
                  <a:pt x="10386" y="1427"/>
                  <a:pt x="10517" y="1414"/>
                </a:cubicBezTo>
                <a:cubicBezTo>
                  <a:pt x="10745" y="1391"/>
                  <a:pt x="10734" y="1696"/>
                  <a:pt x="10740" y="1836"/>
                </a:cubicBezTo>
              </a:path>
              <a:path w="2556" h="844">
                <a:moveTo>
                  <a:pt x="11013" y="1588"/>
                </a:moveTo>
                <a:cubicBezTo>
                  <a:pt x="10995" y="1691"/>
                  <a:pt x="10988" y="1780"/>
                  <a:pt x="10988" y="1885"/>
                </a:cubicBezTo>
              </a:path>
              <a:path w="2556" h="844">
                <a:moveTo>
                  <a:pt x="11038" y="1315"/>
                </a:moveTo>
                <a:lnTo>
                  <a:pt x="11038" y="1315"/>
                </a:lnTo>
              </a:path>
              <a:path w="2556" h="844">
                <a:moveTo>
                  <a:pt x="11435" y="1042"/>
                </a:moveTo>
                <a:cubicBezTo>
                  <a:pt x="11424" y="1274"/>
                  <a:pt x="11410" y="1503"/>
                  <a:pt x="11410" y="1736"/>
                </a:cubicBezTo>
                <a:cubicBezTo>
                  <a:pt x="11410" y="1753"/>
                  <a:pt x="11410" y="1769"/>
                  <a:pt x="11410" y="1786"/>
                </a:cubicBezTo>
              </a:path>
              <a:path w="2556" h="844">
                <a:moveTo>
                  <a:pt x="11088" y="1463"/>
                </a:moveTo>
                <a:cubicBezTo>
                  <a:pt x="11271" y="1468"/>
                  <a:pt x="11450" y="1480"/>
                  <a:pt x="11633" y="1488"/>
                </a:cubicBezTo>
              </a:path>
              <a:path w="2556" h="844">
                <a:moveTo>
                  <a:pt x="11981" y="1315"/>
                </a:moveTo>
                <a:cubicBezTo>
                  <a:pt x="11891" y="1263"/>
                  <a:pt x="11840" y="1271"/>
                  <a:pt x="11733" y="1265"/>
                </a:cubicBezTo>
                <a:cubicBezTo>
                  <a:pt x="11683" y="1463"/>
                  <a:pt x="11952" y="1444"/>
                  <a:pt x="12080" y="1513"/>
                </a:cubicBezTo>
                <a:cubicBezTo>
                  <a:pt x="12121" y="1546"/>
                  <a:pt x="12163" y="1579"/>
                  <a:pt x="12204" y="1612"/>
                </a:cubicBezTo>
                <a:cubicBezTo>
                  <a:pt x="12074" y="1808"/>
                  <a:pt x="11922" y="1795"/>
                  <a:pt x="11708" y="1687"/>
                </a:cubicBezTo>
                <a:cubicBezTo>
                  <a:pt x="11675" y="1662"/>
                  <a:pt x="11642" y="1637"/>
                  <a:pt x="11609" y="16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13200" y="411120"/>
            <a:ext cx="1455840" cy="446040"/>
          </a:xfrm>
          <a:custGeom>
            <a:avLst/>
            <a:gdLst/>
            <a:ahLst/>
            <a:rect l="l" t="t" r="r" b="b"/>
            <a:pathLst>
              <a:path w="4044" h="1241">
                <a:moveTo>
                  <a:pt x="13767" y="1315"/>
                </a:moveTo>
                <a:cubicBezTo>
                  <a:pt x="13675" y="1280"/>
                  <a:pt x="13481" y="1205"/>
                  <a:pt x="13395" y="1315"/>
                </a:cubicBezTo>
                <a:cubicBezTo>
                  <a:pt x="13395" y="1331"/>
                  <a:pt x="13395" y="1348"/>
                  <a:pt x="13395" y="1364"/>
                </a:cubicBezTo>
                <a:cubicBezTo>
                  <a:pt x="13514" y="1462"/>
                  <a:pt x="13641" y="1545"/>
                  <a:pt x="13767" y="1637"/>
                </a:cubicBezTo>
                <a:cubicBezTo>
                  <a:pt x="13584" y="1698"/>
                  <a:pt x="13486" y="1722"/>
                  <a:pt x="13370" y="1563"/>
                </a:cubicBezTo>
              </a:path>
              <a:path w="4044" h="1241">
                <a:moveTo>
                  <a:pt x="14387" y="1488"/>
                </a:moveTo>
                <a:cubicBezTo>
                  <a:pt x="14210" y="1394"/>
                  <a:pt x="14089" y="1424"/>
                  <a:pt x="13965" y="1612"/>
                </a:cubicBezTo>
                <a:cubicBezTo>
                  <a:pt x="13824" y="1826"/>
                  <a:pt x="14225" y="1698"/>
                  <a:pt x="14288" y="1637"/>
                </a:cubicBezTo>
                <a:cubicBezTo>
                  <a:pt x="14304" y="1604"/>
                  <a:pt x="14321" y="1571"/>
                  <a:pt x="14337" y="1538"/>
                </a:cubicBezTo>
                <a:cubicBezTo>
                  <a:pt x="14329" y="1555"/>
                  <a:pt x="14320" y="1571"/>
                  <a:pt x="14312" y="1588"/>
                </a:cubicBezTo>
                <a:cubicBezTo>
                  <a:pt x="14248" y="1788"/>
                  <a:pt x="14114" y="2039"/>
                  <a:pt x="14139" y="2257"/>
                </a:cubicBezTo>
                <a:cubicBezTo>
                  <a:pt x="14155" y="2298"/>
                  <a:pt x="14172" y="2340"/>
                  <a:pt x="14188" y="2381"/>
                </a:cubicBezTo>
                <a:cubicBezTo>
                  <a:pt x="14358" y="2271"/>
                  <a:pt x="14602" y="2084"/>
                  <a:pt x="14412" y="1860"/>
                </a:cubicBezTo>
                <a:cubicBezTo>
                  <a:pt x="14379" y="1844"/>
                  <a:pt x="14345" y="1827"/>
                  <a:pt x="14312" y="1811"/>
                </a:cubicBezTo>
              </a:path>
              <a:path w="4044" h="1241">
                <a:moveTo>
                  <a:pt x="14660" y="1513"/>
                </a:moveTo>
                <a:cubicBezTo>
                  <a:pt x="14621" y="1644"/>
                  <a:pt x="14599" y="1681"/>
                  <a:pt x="14635" y="1811"/>
                </a:cubicBezTo>
                <a:cubicBezTo>
                  <a:pt x="14811" y="1838"/>
                  <a:pt x="14885" y="1763"/>
                  <a:pt x="14957" y="1588"/>
                </a:cubicBezTo>
                <a:cubicBezTo>
                  <a:pt x="14986" y="1518"/>
                  <a:pt x="14938" y="1706"/>
                  <a:pt x="14957" y="1811"/>
                </a:cubicBezTo>
              </a:path>
              <a:path w="4044" h="1241">
                <a:moveTo>
                  <a:pt x="15577" y="1588"/>
                </a:moveTo>
                <a:cubicBezTo>
                  <a:pt x="15505" y="1496"/>
                  <a:pt x="15452" y="1479"/>
                  <a:pt x="15329" y="1563"/>
                </a:cubicBezTo>
                <a:cubicBezTo>
                  <a:pt x="15245" y="1621"/>
                  <a:pt x="15103" y="1894"/>
                  <a:pt x="15329" y="1860"/>
                </a:cubicBezTo>
                <a:cubicBezTo>
                  <a:pt x="15445" y="1803"/>
                  <a:pt x="15487" y="1770"/>
                  <a:pt x="15503" y="1662"/>
                </a:cubicBezTo>
                <a:cubicBezTo>
                  <a:pt x="15511" y="1654"/>
                  <a:pt x="15520" y="1645"/>
                  <a:pt x="15528" y="1637"/>
                </a:cubicBezTo>
                <a:cubicBezTo>
                  <a:pt x="15469" y="1754"/>
                  <a:pt x="15515" y="1893"/>
                  <a:pt x="15701" y="1836"/>
                </a:cubicBezTo>
                <a:cubicBezTo>
                  <a:pt x="15902" y="1775"/>
                  <a:pt x="15861" y="1500"/>
                  <a:pt x="15801" y="1736"/>
                </a:cubicBezTo>
                <a:cubicBezTo>
                  <a:pt x="15801" y="1761"/>
                  <a:pt x="15801" y="1786"/>
                  <a:pt x="15801" y="1811"/>
                </a:cubicBezTo>
                <a:cubicBezTo>
                  <a:pt x="15828" y="1734"/>
                  <a:pt x="15835" y="1578"/>
                  <a:pt x="15925" y="1538"/>
                </a:cubicBezTo>
                <a:cubicBezTo>
                  <a:pt x="16031" y="1511"/>
                  <a:pt x="16071" y="1503"/>
                  <a:pt x="16148" y="1513"/>
                </a:cubicBezTo>
              </a:path>
              <a:path w="4044" h="1241">
                <a:moveTo>
                  <a:pt x="16297" y="1662"/>
                </a:moveTo>
                <a:cubicBezTo>
                  <a:pt x="16448" y="1662"/>
                  <a:pt x="16573" y="1654"/>
                  <a:pt x="16718" y="1612"/>
                </a:cubicBezTo>
                <a:cubicBezTo>
                  <a:pt x="16660" y="1509"/>
                  <a:pt x="16587" y="1499"/>
                  <a:pt x="16470" y="1538"/>
                </a:cubicBezTo>
                <a:cubicBezTo>
                  <a:pt x="16351" y="1578"/>
                  <a:pt x="16294" y="1668"/>
                  <a:pt x="16222" y="1761"/>
                </a:cubicBezTo>
                <a:cubicBezTo>
                  <a:pt x="16353" y="1904"/>
                  <a:pt x="16372" y="1887"/>
                  <a:pt x="16570" y="1910"/>
                </a:cubicBezTo>
              </a:path>
              <a:path w="4044" h="1241">
                <a:moveTo>
                  <a:pt x="17413" y="1761"/>
                </a:moveTo>
                <a:cubicBezTo>
                  <a:pt x="17393" y="1643"/>
                  <a:pt x="17316" y="1584"/>
                  <a:pt x="17190" y="1563"/>
                </a:cubicBezTo>
                <a:cubicBezTo>
                  <a:pt x="16974" y="1527"/>
                  <a:pt x="16901" y="1631"/>
                  <a:pt x="16867" y="1811"/>
                </a:cubicBezTo>
                <a:cubicBezTo>
                  <a:pt x="17051" y="1955"/>
                  <a:pt x="17068" y="1914"/>
                  <a:pt x="17289" y="1860"/>
                </a:cubicBezTo>
              </a:path>
              <a:path w="4044" h="1241">
                <a:moveTo>
                  <a:pt x="17338" y="1141"/>
                </a:moveTo>
                <a:cubicBezTo>
                  <a:pt x="17324" y="1367"/>
                  <a:pt x="17274" y="1584"/>
                  <a:pt x="17264" y="1811"/>
                </a:cubicBezTo>
                <a:cubicBezTo>
                  <a:pt x="17264" y="1836"/>
                  <a:pt x="17264" y="1860"/>
                  <a:pt x="17264" y="18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73880" y="366840"/>
            <a:ext cx="98280" cy="374400"/>
          </a:xfrm>
          <a:custGeom>
            <a:avLst/>
            <a:gdLst/>
            <a:ahLst/>
            <a:rect l="l" t="t" r="r" b="b"/>
            <a:pathLst>
              <a:path w="274" h="1043">
                <a:moveTo>
                  <a:pt x="18256" y="1017"/>
                </a:moveTo>
                <a:cubicBezTo>
                  <a:pt x="18256" y="1113"/>
                  <a:pt x="18257" y="1194"/>
                  <a:pt x="18231" y="1290"/>
                </a:cubicBezTo>
                <a:cubicBezTo>
                  <a:pt x="18193" y="1428"/>
                  <a:pt x="18166" y="1544"/>
                  <a:pt x="18157" y="1687"/>
                </a:cubicBezTo>
              </a:path>
              <a:path w="274" h="1043">
                <a:moveTo>
                  <a:pt x="17983" y="2034"/>
                </a:moveTo>
                <a:cubicBezTo>
                  <a:pt x="18041" y="2069"/>
                  <a:pt x="18041" y="2059"/>
                  <a:pt x="18107" y="2034"/>
                </a:cubicBezTo>
                <a:cubicBezTo>
                  <a:pt x="18073" y="1965"/>
                  <a:pt x="18024" y="1980"/>
                  <a:pt x="17983" y="203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7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7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7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7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7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7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7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7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7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7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7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7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7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7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7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7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7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7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bjective:  Students will find the area of a parallelogram</a:t>
            </a: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 Try some on your own: 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.) b = 7c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.) b = 22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 = 8c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h = 3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.) b = 2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.) b = 9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 = 12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h = 11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4880" y="2187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60" y="6077"/>
                </a:moveTo>
                <a:lnTo>
                  <a:pt x="1960" y="607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8960" y="3027240"/>
            <a:ext cx="696960" cy="285840"/>
          </a:xfrm>
          <a:custGeom>
            <a:avLst/>
            <a:gdLst/>
            <a:ahLst/>
            <a:rect l="l" t="t" r="r" b="b"/>
            <a:pathLst>
              <a:path w="1936" h="795">
                <a:moveTo>
                  <a:pt x="1786" y="8607"/>
                </a:moveTo>
                <a:cubicBezTo>
                  <a:pt x="1740" y="8808"/>
                  <a:pt x="1699" y="9006"/>
                  <a:pt x="1637" y="9203"/>
                </a:cubicBezTo>
                <a:cubicBezTo>
                  <a:pt x="1650" y="9003"/>
                  <a:pt x="1648" y="8708"/>
                  <a:pt x="1761" y="8533"/>
                </a:cubicBezTo>
                <a:cubicBezTo>
                  <a:pt x="1794" y="8508"/>
                  <a:pt x="1827" y="8483"/>
                  <a:pt x="1860" y="8458"/>
                </a:cubicBezTo>
                <a:cubicBezTo>
                  <a:pt x="2060" y="8632"/>
                  <a:pt x="2112" y="8803"/>
                  <a:pt x="2059" y="9079"/>
                </a:cubicBezTo>
                <a:cubicBezTo>
                  <a:pt x="2051" y="9095"/>
                  <a:pt x="2042" y="9112"/>
                  <a:pt x="2034" y="9128"/>
                </a:cubicBezTo>
              </a:path>
              <a:path w="1936" h="795">
                <a:moveTo>
                  <a:pt x="1637" y="8954"/>
                </a:moveTo>
                <a:cubicBezTo>
                  <a:pt x="1870" y="8877"/>
                  <a:pt x="1954" y="8848"/>
                  <a:pt x="2108" y="8781"/>
                </a:cubicBezTo>
              </a:path>
              <a:path w="1936" h="795">
                <a:moveTo>
                  <a:pt x="2282" y="8830"/>
                </a:moveTo>
                <a:cubicBezTo>
                  <a:pt x="2323" y="8814"/>
                  <a:pt x="2365" y="8797"/>
                  <a:pt x="2406" y="8781"/>
                </a:cubicBezTo>
              </a:path>
              <a:path w="1936" h="795">
                <a:moveTo>
                  <a:pt x="2232" y="9004"/>
                </a:moveTo>
                <a:cubicBezTo>
                  <a:pt x="2298" y="8979"/>
                  <a:pt x="2365" y="8955"/>
                  <a:pt x="2431" y="8930"/>
                </a:cubicBezTo>
              </a:path>
              <a:path w="1936" h="795">
                <a:moveTo>
                  <a:pt x="2629" y="8483"/>
                </a:moveTo>
                <a:cubicBezTo>
                  <a:pt x="2642" y="8646"/>
                  <a:pt x="2669" y="8793"/>
                  <a:pt x="2704" y="8954"/>
                </a:cubicBezTo>
                <a:cubicBezTo>
                  <a:pt x="2753" y="8784"/>
                  <a:pt x="2856" y="8495"/>
                  <a:pt x="3076" y="8731"/>
                </a:cubicBezTo>
                <a:cubicBezTo>
                  <a:pt x="3269" y="8937"/>
                  <a:pt x="2845" y="8984"/>
                  <a:pt x="2753" y="8979"/>
                </a:cubicBezTo>
              </a:path>
              <a:path w="1936" h="795">
                <a:moveTo>
                  <a:pt x="3101" y="8409"/>
                </a:moveTo>
                <a:cubicBezTo>
                  <a:pt x="3171" y="8568"/>
                  <a:pt x="3228" y="8706"/>
                  <a:pt x="3249" y="8880"/>
                </a:cubicBezTo>
                <a:cubicBezTo>
                  <a:pt x="3298" y="8693"/>
                  <a:pt x="3286" y="8669"/>
                  <a:pt x="3448" y="8582"/>
                </a:cubicBezTo>
                <a:cubicBezTo>
                  <a:pt x="3571" y="8751"/>
                  <a:pt x="3582" y="8847"/>
                  <a:pt x="3547" y="90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960" y="3313080"/>
            <a:ext cx="982800" cy="250920"/>
          </a:xfrm>
          <a:custGeom>
            <a:avLst/>
            <a:gdLst/>
            <a:ahLst/>
            <a:rect l="l" t="t" r="r" b="b"/>
            <a:pathLst>
              <a:path w="2729" h="695">
                <a:moveTo>
                  <a:pt x="1811" y="9426"/>
                </a:moveTo>
                <a:cubicBezTo>
                  <a:pt x="1788" y="9576"/>
                  <a:pt x="1774" y="9689"/>
                  <a:pt x="1712" y="9823"/>
                </a:cubicBezTo>
                <a:cubicBezTo>
                  <a:pt x="1783" y="9636"/>
                  <a:pt x="1797" y="9437"/>
                  <a:pt x="2009" y="9376"/>
                </a:cubicBezTo>
                <a:cubicBezTo>
                  <a:pt x="2131" y="9554"/>
                  <a:pt x="2154" y="9682"/>
                  <a:pt x="2133" y="9897"/>
                </a:cubicBezTo>
              </a:path>
              <a:path w="2729" h="695">
                <a:moveTo>
                  <a:pt x="1811" y="9674"/>
                </a:moveTo>
                <a:cubicBezTo>
                  <a:pt x="1951" y="9630"/>
                  <a:pt x="2091" y="9590"/>
                  <a:pt x="2232" y="9550"/>
                </a:cubicBezTo>
              </a:path>
              <a:path w="2729" h="695">
                <a:moveTo>
                  <a:pt x="2431" y="9500"/>
                </a:moveTo>
                <a:cubicBezTo>
                  <a:pt x="2531" y="9500"/>
                  <a:pt x="2565" y="9500"/>
                  <a:pt x="2629" y="9475"/>
                </a:cubicBezTo>
              </a:path>
              <a:path w="2729" h="695">
                <a:moveTo>
                  <a:pt x="2456" y="9649"/>
                </a:moveTo>
                <a:cubicBezTo>
                  <a:pt x="2472" y="9649"/>
                  <a:pt x="2489" y="9649"/>
                  <a:pt x="2505" y="9649"/>
                </a:cubicBezTo>
              </a:path>
              <a:path w="2729" h="695">
                <a:moveTo>
                  <a:pt x="2853" y="9451"/>
                </a:moveTo>
                <a:cubicBezTo>
                  <a:pt x="2976" y="9416"/>
                  <a:pt x="3235" y="9305"/>
                  <a:pt x="3249" y="9500"/>
                </a:cubicBezTo>
                <a:cubicBezTo>
                  <a:pt x="3257" y="9616"/>
                  <a:pt x="3190" y="9720"/>
                  <a:pt x="3150" y="9823"/>
                </a:cubicBezTo>
              </a:path>
              <a:path w="2729" h="695">
                <a:moveTo>
                  <a:pt x="3597" y="9227"/>
                </a:moveTo>
                <a:cubicBezTo>
                  <a:pt x="3487" y="9447"/>
                  <a:pt x="3438" y="9583"/>
                  <a:pt x="3448" y="9823"/>
                </a:cubicBezTo>
              </a:path>
              <a:path w="2729" h="695">
                <a:moveTo>
                  <a:pt x="3944" y="9302"/>
                </a:moveTo>
                <a:cubicBezTo>
                  <a:pt x="3787" y="9397"/>
                  <a:pt x="3889" y="9439"/>
                  <a:pt x="3944" y="9599"/>
                </a:cubicBezTo>
                <a:cubicBezTo>
                  <a:pt x="3965" y="9683"/>
                  <a:pt x="3981" y="9703"/>
                  <a:pt x="3944" y="9748"/>
                </a:cubicBezTo>
                <a:cubicBezTo>
                  <a:pt x="3797" y="9685"/>
                  <a:pt x="3901" y="9526"/>
                  <a:pt x="3994" y="9426"/>
                </a:cubicBezTo>
                <a:cubicBezTo>
                  <a:pt x="4019" y="9409"/>
                  <a:pt x="4043" y="9393"/>
                  <a:pt x="4068" y="9376"/>
                </a:cubicBezTo>
              </a:path>
              <a:path w="2729" h="695">
                <a:moveTo>
                  <a:pt x="4341" y="9203"/>
                </a:moveTo>
                <a:cubicBezTo>
                  <a:pt x="4442" y="9506"/>
                  <a:pt x="4453" y="9500"/>
                  <a:pt x="4291" y="97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040" y="3606840"/>
            <a:ext cx="338040" cy="223920"/>
          </a:xfrm>
          <a:custGeom>
            <a:avLst/>
            <a:gdLst/>
            <a:ahLst/>
            <a:rect l="l" t="t" r="r" b="b"/>
            <a:pathLst>
              <a:path w="943" h="621">
                <a:moveTo>
                  <a:pt x="1736" y="10443"/>
                </a:moveTo>
                <a:cubicBezTo>
                  <a:pt x="1728" y="10493"/>
                  <a:pt x="1720" y="10542"/>
                  <a:pt x="1712" y="10592"/>
                </a:cubicBezTo>
                <a:cubicBezTo>
                  <a:pt x="1698" y="10513"/>
                  <a:pt x="1770" y="10203"/>
                  <a:pt x="1910" y="10071"/>
                </a:cubicBezTo>
                <a:cubicBezTo>
                  <a:pt x="1943" y="10054"/>
                  <a:pt x="1976" y="10038"/>
                  <a:pt x="2009" y="10021"/>
                </a:cubicBezTo>
                <a:cubicBezTo>
                  <a:pt x="2143" y="10241"/>
                  <a:pt x="2132" y="10384"/>
                  <a:pt x="2084" y="10641"/>
                </a:cubicBezTo>
              </a:path>
              <a:path w="943" h="621">
                <a:moveTo>
                  <a:pt x="1860" y="10393"/>
                </a:moveTo>
                <a:cubicBezTo>
                  <a:pt x="1926" y="10377"/>
                  <a:pt x="1993" y="10360"/>
                  <a:pt x="2059" y="10344"/>
                </a:cubicBezTo>
              </a:path>
              <a:path w="943" h="621">
                <a:moveTo>
                  <a:pt x="2381" y="10368"/>
                </a:moveTo>
                <a:cubicBezTo>
                  <a:pt x="2506" y="10368"/>
                  <a:pt x="2548" y="10368"/>
                  <a:pt x="2629" y="10344"/>
                </a:cubicBezTo>
              </a:path>
              <a:path w="943" h="621">
                <a:moveTo>
                  <a:pt x="2356" y="10542"/>
                </a:moveTo>
                <a:cubicBezTo>
                  <a:pt x="2480" y="10492"/>
                  <a:pt x="2521" y="10475"/>
                  <a:pt x="2604" y="104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08080" y="3544920"/>
            <a:ext cx="955800" cy="260280"/>
          </a:xfrm>
          <a:custGeom>
            <a:avLst/>
            <a:gdLst/>
            <a:ahLst/>
            <a:rect l="l" t="t" r="r" b="b"/>
            <a:pathLst>
              <a:path w="2655" h="721">
                <a:moveTo>
                  <a:pt x="3349" y="10071"/>
                </a:moveTo>
                <a:cubicBezTo>
                  <a:pt x="3240" y="10082"/>
                  <a:pt x="3166" y="10106"/>
                  <a:pt x="3076" y="10170"/>
                </a:cubicBezTo>
                <a:cubicBezTo>
                  <a:pt x="3117" y="10182"/>
                  <a:pt x="3468" y="10255"/>
                  <a:pt x="3398" y="10368"/>
                </a:cubicBezTo>
                <a:cubicBezTo>
                  <a:pt x="3373" y="10376"/>
                  <a:pt x="3349" y="10385"/>
                  <a:pt x="3324" y="10393"/>
                </a:cubicBezTo>
              </a:path>
              <a:path w="2655" h="721">
                <a:moveTo>
                  <a:pt x="3349" y="10021"/>
                </a:moveTo>
                <a:cubicBezTo>
                  <a:pt x="3473" y="10021"/>
                  <a:pt x="3597" y="10021"/>
                  <a:pt x="3721" y="10021"/>
                </a:cubicBezTo>
                <a:cubicBezTo>
                  <a:pt x="3744" y="10161"/>
                  <a:pt x="3667" y="10274"/>
                  <a:pt x="3671" y="10418"/>
                </a:cubicBezTo>
                <a:cubicBezTo>
                  <a:pt x="3679" y="10443"/>
                  <a:pt x="3688" y="10467"/>
                  <a:pt x="3696" y="10492"/>
                </a:cubicBezTo>
                <a:cubicBezTo>
                  <a:pt x="3834" y="10441"/>
                  <a:pt x="3915" y="10348"/>
                  <a:pt x="4018" y="10244"/>
                </a:cubicBezTo>
                <a:cubicBezTo>
                  <a:pt x="3832" y="10245"/>
                  <a:pt x="3787" y="10300"/>
                  <a:pt x="3746" y="10492"/>
                </a:cubicBezTo>
              </a:path>
              <a:path w="2655" h="721">
                <a:moveTo>
                  <a:pt x="4490" y="10244"/>
                </a:moveTo>
                <a:cubicBezTo>
                  <a:pt x="4428" y="10183"/>
                  <a:pt x="4422" y="10159"/>
                  <a:pt x="4366" y="10170"/>
                </a:cubicBezTo>
                <a:cubicBezTo>
                  <a:pt x="4336" y="10225"/>
                  <a:pt x="4136" y="10611"/>
                  <a:pt x="4366" y="10567"/>
                </a:cubicBezTo>
                <a:cubicBezTo>
                  <a:pt x="4424" y="10534"/>
                  <a:pt x="4481" y="10501"/>
                  <a:pt x="4539" y="10468"/>
                </a:cubicBezTo>
              </a:path>
              <a:path w="2655" h="721">
                <a:moveTo>
                  <a:pt x="4738" y="10244"/>
                </a:moveTo>
                <a:cubicBezTo>
                  <a:pt x="4738" y="10335"/>
                  <a:pt x="4738" y="10377"/>
                  <a:pt x="4738" y="10443"/>
                </a:cubicBezTo>
                <a:cubicBezTo>
                  <a:pt x="4784" y="10255"/>
                  <a:pt x="4836" y="10160"/>
                  <a:pt x="5011" y="10368"/>
                </a:cubicBezTo>
                <a:cubicBezTo>
                  <a:pt x="5027" y="10401"/>
                  <a:pt x="5044" y="10435"/>
                  <a:pt x="5060" y="10468"/>
                </a:cubicBezTo>
                <a:cubicBezTo>
                  <a:pt x="5056" y="10399"/>
                  <a:pt x="5062" y="10051"/>
                  <a:pt x="5234" y="10195"/>
                </a:cubicBezTo>
                <a:cubicBezTo>
                  <a:pt x="5311" y="10259"/>
                  <a:pt x="5301" y="10405"/>
                  <a:pt x="5308" y="10492"/>
                </a:cubicBezTo>
              </a:path>
              <a:path w="2655" h="721">
                <a:moveTo>
                  <a:pt x="5432" y="9872"/>
                </a:moveTo>
                <a:cubicBezTo>
                  <a:pt x="5614" y="9848"/>
                  <a:pt x="5828" y="9897"/>
                  <a:pt x="5655" y="10120"/>
                </a:cubicBezTo>
                <a:cubicBezTo>
                  <a:pt x="5555" y="10250"/>
                  <a:pt x="5487" y="10231"/>
                  <a:pt x="5358" y="10195"/>
                </a:cubicBezTo>
                <a:cubicBezTo>
                  <a:pt x="5490" y="10151"/>
                  <a:pt x="5558" y="10167"/>
                  <a:pt x="5705" y="101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33920" y="3009960"/>
            <a:ext cx="1027080" cy="320760"/>
          </a:xfrm>
          <a:custGeom>
            <a:avLst/>
            <a:gdLst/>
            <a:ahLst/>
            <a:rect l="l" t="t" r="r" b="b"/>
            <a:pathLst>
              <a:path w="2853" h="894">
                <a:moveTo>
                  <a:pt x="12898" y="8582"/>
                </a:moveTo>
                <a:cubicBezTo>
                  <a:pt x="12898" y="8475"/>
                  <a:pt x="12898" y="8649"/>
                  <a:pt x="12898" y="8756"/>
                </a:cubicBezTo>
                <a:cubicBezTo>
                  <a:pt x="12898" y="8949"/>
                  <a:pt x="12897" y="9370"/>
                  <a:pt x="12874" y="9178"/>
                </a:cubicBezTo>
                <a:cubicBezTo>
                  <a:pt x="12892" y="8857"/>
                  <a:pt x="12927" y="8630"/>
                  <a:pt x="13097" y="8359"/>
                </a:cubicBezTo>
                <a:cubicBezTo>
                  <a:pt x="13330" y="8491"/>
                  <a:pt x="13421" y="8774"/>
                  <a:pt x="13444" y="9054"/>
                </a:cubicBezTo>
                <a:cubicBezTo>
                  <a:pt x="13423" y="9138"/>
                  <a:pt x="13421" y="9157"/>
                  <a:pt x="13395" y="9203"/>
                </a:cubicBezTo>
              </a:path>
              <a:path w="2853" h="894">
                <a:moveTo>
                  <a:pt x="12948" y="8954"/>
                </a:moveTo>
                <a:cubicBezTo>
                  <a:pt x="13130" y="8905"/>
                  <a:pt x="13280" y="8887"/>
                  <a:pt x="13469" y="8880"/>
                </a:cubicBezTo>
              </a:path>
              <a:path w="2853" h="894">
                <a:moveTo>
                  <a:pt x="13494" y="8930"/>
                </a:moveTo>
                <a:cubicBezTo>
                  <a:pt x="13644" y="8917"/>
                  <a:pt x="13767" y="8891"/>
                  <a:pt x="13915" y="8855"/>
                </a:cubicBezTo>
              </a:path>
              <a:path w="2853" h="894">
                <a:moveTo>
                  <a:pt x="13593" y="9054"/>
                </a:moveTo>
                <a:cubicBezTo>
                  <a:pt x="13719" y="9054"/>
                  <a:pt x="13779" y="9046"/>
                  <a:pt x="13866" y="9004"/>
                </a:cubicBezTo>
              </a:path>
              <a:path w="2853" h="894">
                <a:moveTo>
                  <a:pt x="14114" y="8409"/>
                </a:moveTo>
                <a:cubicBezTo>
                  <a:pt x="14130" y="8608"/>
                  <a:pt x="14158" y="8813"/>
                  <a:pt x="14213" y="9004"/>
                </a:cubicBezTo>
                <a:cubicBezTo>
                  <a:pt x="14235" y="8907"/>
                  <a:pt x="14492" y="8472"/>
                  <a:pt x="14585" y="8806"/>
                </a:cubicBezTo>
                <a:cubicBezTo>
                  <a:pt x="14643" y="9015"/>
                  <a:pt x="14388" y="9015"/>
                  <a:pt x="14288" y="9029"/>
                </a:cubicBezTo>
              </a:path>
              <a:path w="2853" h="894">
                <a:moveTo>
                  <a:pt x="14709" y="8409"/>
                </a:moveTo>
                <a:cubicBezTo>
                  <a:pt x="14656" y="8692"/>
                  <a:pt x="14571" y="8887"/>
                  <a:pt x="14759" y="9103"/>
                </a:cubicBezTo>
              </a:path>
              <a:path w="2853" h="894">
                <a:moveTo>
                  <a:pt x="15007" y="8533"/>
                </a:moveTo>
                <a:cubicBezTo>
                  <a:pt x="15012" y="8700"/>
                  <a:pt x="15024" y="8863"/>
                  <a:pt x="15032" y="9029"/>
                </a:cubicBezTo>
                <a:cubicBezTo>
                  <a:pt x="15048" y="8949"/>
                  <a:pt x="15143" y="8581"/>
                  <a:pt x="15304" y="8731"/>
                </a:cubicBezTo>
                <a:cubicBezTo>
                  <a:pt x="15373" y="8868"/>
                  <a:pt x="15395" y="8904"/>
                  <a:pt x="15404" y="9004"/>
                </a:cubicBezTo>
              </a:path>
              <a:path w="2853" h="894">
                <a:moveTo>
                  <a:pt x="15602" y="8434"/>
                </a:moveTo>
                <a:cubicBezTo>
                  <a:pt x="15713" y="8751"/>
                  <a:pt x="15751" y="8793"/>
                  <a:pt x="15652" y="91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06920" y="3268800"/>
            <a:ext cx="1243080" cy="357120"/>
          </a:xfrm>
          <a:custGeom>
            <a:avLst/>
            <a:gdLst/>
            <a:ahLst/>
            <a:rect l="l" t="t" r="r" b="b"/>
            <a:pathLst>
              <a:path w="3449" h="993">
                <a:moveTo>
                  <a:pt x="12849" y="9674"/>
                </a:moveTo>
                <a:cubicBezTo>
                  <a:pt x="12829" y="9806"/>
                  <a:pt x="12799" y="10105"/>
                  <a:pt x="12799" y="9971"/>
                </a:cubicBezTo>
                <a:cubicBezTo>
                  <a:pt x="12863" y="9754"/>
                  <a:pt x="12926" y="9590"/>
                  <a:pt x="13047" y="9401"/>
                </a:cubicBezTo>
                <a:cubicBezTo>
                  <a:pt x="13192" y="9611"/>
                  <a:pt x="13178" y="9809"/>
                  <a:pt x="13146" y="10071"/>
                </a:cubicBezTo>
              </a:path>
              <a:path w="3449" h="993">
                <a:moveTo>
                  <a:pt x="12948" y="9773"/>
                </a:moveTo>
                <a:cubicBezTo>
                  <a:pt x="13187" y="9725"/>
                  <a:pt x="13260" y="9709"/>
                  <a:pt x="13419" y="9699"/>
                </a:cubicBezTo>
              </a:path>
              <a:path w="3449" h="993">
                <a:moveTo>
                  <a:pt x="13593" y="9699"/>
                </a:moveTo>
                <a:cubicBezTo>
                  <a:pt x="13651" y="9691"/>
                  <a:pt x="13709" y="9682"/>
                  <a:pt x="13767" y="9674"/>
                </a:cubicBezTo>
              </a:path>
              <a:path w="3449" h="993">
                <a:moveTo>
                  <a:pt x="13370" y="9897"/>
                </a:moveTo>
                <a:cubicBezTo>
                  <a:pt x="13403" y="9889"/>
                  <a:pt x="13436" y="9880"/>
                  <a:pt x="13469" y="9872"/>
                </a:cubicBezTo>
              </a:path>
              <a:path w="3449" h="993">
                <a:moveTo>
                  <a:pt x="14015" y="9426"/>
                </a:moveTo>
                <a:cubicBezTo>
                  <a:pt x="14201" y="9435"/>
                  <a:pt x="14552" y="9590"/>
                  <a:pt x="14312" y="9847"/>
                </a:cubicBezTo>
                <a:cubicBezTo>
                  <a:pt x="14121" y="9944"/>
                  <a:pt x="14062" y="9977"/>
                  <a:pt x="13915" y="9947"/>
                </a:cubicBezTo>
                <a:cubicBezTo>
                  <a:pt x="14007" y="9702"/>
                  <a:pt x="14153" y="9708"/>
                  <a:pt x="14387" y="9798"/>
                </a:cubicBezTo>
              </a:path>
              <a:path w="3449" h="993">
                <a:moveTo>
                  <a:pt x="14660" y="9401"/>
                </a:moveTo>
                <a:cubicBezTo>
                  <a:pt x="14746" y="9545"/>
                  <a:pt x="14986" y="9851"/>
                  <a:pt x="14660" y="9872"/>
                </a:cubicBezTo>
                <a:cubicBezTo>
                  <a:pt x="14526" y="9850"/>
                  <a:pt x="14487" y="9852"/>
                  <a:pt x="14436" y="9773"/>
                </a:cubicBezTo>
                <a:cubicBezTo>
                  <a:pt x="14660" y="9648"/>
                  <a:pt x="14734" y="9713"/>
                  <a:pt x="14908" y="9897"/>
                </a:cubicBezTo>
              </a:path>
              <a:path w="3449" h="993">
                <a:moveTo>
                  <a:pt x="15032" y="9227"/>
                </a:moveTo>
                <a:cubicBezTo>
                  <a:pt x="14902" y="9556"/>
                  <a:pt x="14850" y="9724"/>
                  <a:pt x="15081" y="9996"/>
                </a:cubicBezTo>
              </a:path>
              <a:path w="3449" h="993">
                <a:moveTo>
                  <a:pt x="15379" y="9475"/>
                </a:moveTo>
                <a:cubicBezTo>
                  <a:pt x="15293" y="9393"/>
                  <a:pt x="15622" y="9457"/>
                  <a:pt x="15701" y="9475"/>
                </a:cubicBezTo>
                <a:cubicBezTo>
                  <a:pt x="15869" y="9514"/>
                  <a:pt x="15569" y="9662"/>
                  <a:pt x="15553" y="9674"/>
                </a:cubicBezTo>
                <a:cubicBezTo>
                  <a:pt x="15622" y="9679"/>
                  <a:pt x="16013" y="9704"/>
                  <a:pt x="15850" y="9872"/>
                </a:cubicBezTo>
                <a:cubicBezTo>
                  <a:pt x="15677" y="9971"/>
                  <a:pt x="15620" y="10004"/>
                  <a:pt x="15478" y="9971"/>
                </a:cubicBezTo>
              </a:path>
              <a:path w="3449" h="993">
                <a:moveTo>
                  <a:pt x="15825" y="9079"/>
                </a:moveTo>
                <a:cubicBezTo>
                  <a:pt x="16094" y="9275"/>
                  <a:pt x="16389" y="9567"/>
                  <a:pt x="16197" y="9947"/>
                </a:cubicBezTo>
                <a:cubicBezTo>
                  <a:pt x="16148" y="9988"/>
                  <a:pt x="16098" y="10030"/>
                  <a:pt x="16049" y="100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16280" y="3679920"/>
            <a:ext cx="322560" cy="25884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12824" y="10939"/>
                </a:moveTo>
                <a:cubicBezTo>
                  <a:pt x="12852" y="10660"/>
                  <a:pt x="12949" y="10456"/>
                  <a:pt x="13097" y="10220"/>
                </a:cubicBezTo>
                <a:cubicBezTo>
                  <a:pt x="13216" y="10443"/>
                  <a:pt x="13214" y="10661"/>
                  <a:pt x="13196" y="10914"/>
                </a:cubicBezTo>
              </a:path>
              <a:path w="894" h="720">
                <a:moveTo>
                  <a:pt x="12874" y="10691"/>
                </a:moveTo>
                <a:cubicBezTo>
                  <a:pt x="13088" y="10664"/>
                  <a:pt x="13171" y="10654"/>
                  <a:pt x="13320" y="10641"/>
                </a:cubicBezTo>
              </a:path>
              <a:path w="894" h="720">
                <a:moveTo>
                  <a:pt x="13494" y="10616"/>
                </a:moveTo>
                <a:cubicBezTo>
                  <a:pt x="13594" y="10616"/>
                  <a:pt x="13644" y="10612"/>
                  <a:pt x="13717" y="10592"/>
                </a:cubicBezTo>
              </a:path>
              <a:path w="894" h="720">
                <a:moveTo>
                  <a:pt x="13494" y="10815"/>
                </a:moveTo>
                <a:cubicBezTo>
                  <a:pt x="13544" y="10807"/>
                  <a:pt x="13593" y="10798"/>
                  <a:pt x="13643" y="107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16680" y="3670200"/>
            <a:ext cx="474480" cy="231840"/>
          </a:xfrm>
          <a:custGeom>
            <a:avLst/>
            <a:gdLst/>
            <a:ahLst/>
            <a:rect l="l" t="t" r="r" b="b"/>
            <a:pathLst>
              <a:path w="1316" h="646">
                <a:moveTo>
                  <a:pt x="14238" y="10294"/>
                </a:moveTo>
                <a:cubicBezTo>
                  <a:pt x="14265" y="10443"/>
                  <a:pt x="14169" y="10613"/>
                  <a:pt x="14238" y="10765"/>
                </a:cubicBezTo>
                <a:cubicBezTo>
                  <a:pt x="14351" y="11013"/>
                  <a:pt x="14649" y="10744"/>
                  <a:pt x="14684" y="10592"/>
                </a:cubicBezTo>
                <a:cubicBezTo>
                  <a:pt x="14676" y="10559"/>
                  <a:pt x="14668" y="10525"/>
                  <a:pt x="14660" y="10492"/>
                </a:cubicBezTo>
                <a:cubicBezTo>
                  <a:pt x="14496" y="10542"/>
                  <a:pt x="14438" y="10607"/>
                  <a:pt x="14511" y="10765"/>
                </a:cubicBezTo>
              </a:path>
              <a:path w="1316" h="646">
                <a:moveTo>
                  <a:pt x="14858" y="10195"/>
                </a:moveTo>
                <a:cubicBezTo>
                  <a:pt x="14816" y="10346"/>
                  <a:pt x="14757" y="10555"/>
                  <a:pt x="14784" y="10716"/>
                </a:cubicBezTo>
                <a:cubicBezTo>
                  <a:pt x="14800" y="10749"/>
                  <a:pt x="14817" y="10782"/>
                  <a:pt x="14833" y="10815"/>
                </a:cubicBezTo>
                <a:cubicBezTo>
                  <a:pt x="14890" y="10806"/>
                  <a:pt x="15382" y="10551"/>
                  <a:pt x="15205" y="10468"/>
                </a:cubicBezTo>
                <a:cubicBezTo>
                  <a:pt x="15088" y="10413"/>
                  <a:pt x="15040" y="10741"/>
                  <a:pt x="15032" y="10790"/>
                </a:cubicBezTo>
              </a:path>
              <a:path w="1316" h="646">
                <a:moveTo>
                  <a:pt x="15528" y="10542"/>
                </a:moveTo>
                <a:cubicBezTo>
                  <a:pt x="15528" y="10633"/>
                  <a:pt x="15528" y="10724"/>
                  <a:pt x="15528" y="10815"/>
                </a:cubicBezTo>
              </a:path>
              <a:path w="1316" h="646">
                <a:moveTo>
                  <a:pt x="15453" y="10344"/>
                </a:moveTo>
                <a:lnTo>
                  <a:pt x="15453" y="1034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759120"/>
            <a:ext cx="125280" cy="11592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15875" y="10691"/>
                </a:moveTo>
                <a:cubicBezTo>
                  <a:pt x="15896" y="10710"/>
                  <a:pt x="15911" y="10476"/>
                  <a:pt x="16098" y="10443"/>
                </a:cubicBezTo>
                <a:cubicBezTo>
                  <a:pt x="16275" y="10411"/>
                  <a:pt x="16199" y="10708"/>
                  <a:pt x="16197" y="1076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6840" y="365292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6520" y="10145"/>
                </a:moveTo>
                <a:cubicBezTo>
                  <a:pt x="16588" y="10155"/>
                  <a:pt x="17040" y="10283"/>
                  <a:pt x="16768" y="10393"/>
                </a:cubicBezTo>
                <a:cubicBezTo>
                  <a:pt x="16656" y="10393"/>
                  <a:pt x="16624" y="10399"/>
                  <a:pt x="16570" y="10344"/>
                </a:cubicBezTo>
                <a:cubicBezTo>
                  <a:pt x="16683" y="10350"/>
                  <a:pt x="16782" y="10364"/>
                  <a:pt x="16892" y="1039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2880" y="5322960"/>
            <a:ext cx="785880" cy="303120"/>
          </a:xfrm>
          <a:custGeom>
            <a:avLst/>
            <a:gdLst/>
            <a:ahLst/>
            <a:rect l="l" t="t" r="r" b="b"/>
            <a:pathLst>
              <a:path w="2184" h="844">
                <a:moveTo>
                  <a:pt x="2332" y="14982"/>
                </a:moveTo>
                <a:cubicBezTo>
                  <a:pt x="2310" y="15198"/>
                  <a:pt x="2307" y="15409"/>
                  <a:pt x="2307" y="15627"/>
                </a:cubicBezTo>
                <a:cubicBezTo>
                  <a:pt x="2263" y="15423"/>
                  <a:pt x="2260" y="15167"/>
                  <a:pt x="2307" y="14957"/>
                </a:cubicBezTo>
                <a:cubicBezTo>
                  <a:pt x="2347" y="14857"/>
                  <a:pt x="2340" y="14827"/>
                  <a:pt x="2406" y="14808"/>
                </a:cubicBezTo>
                <a:cubicBezTo>
                  <a:pt x="2645" y="14791"/>
                  <a:pt x="2662" y="14986"/>
                  <a:pt x="2704" y="15205"/>
                </a:cubicBezTo>
                <a:cubicBezTo>
                  <a:pt x="2725" y="15370"/>
                  <a:pt x="2733" y="15403"/>
                  <a:pt x="2729" y="15503"/>
                </a:cubicBezTo>
              </a:path>
              <a:path w="2184" h="844">
                <a:moveTo>
                  <a:pt x="2257" y="15230"/>
                </a:moveTo>
                <a:cubicBezTo>
                  <a:pt x="2414" y="15230"/>
                  <a:pt x="2572" y="15230"/>
                  <a:pt x="2729" y="15230"/>
                </a:cubicBezTo>
              </a:path>
              <a:path w="2184" h="844">
                <a:moveTo>
                  <a:pt x="3001" y="15205"/>
                </a:moveTo>
                <a:cubicBezTo>
                  <a:pt x="3117" y="15205"/>
                  <a:pt x="3233" y="15205"/>
                  <a:pt x="3349" y="15205"/>
                </a:cubicBezTo>
              </a:path>
              <a:path w="2184" h="844">
                <a:moveTo>
                  <a:pt x="3051" y="15453"/>
                </a:moveTo>
                <a:cubicBezTo>
                  <a:pt x="3176" y="15453"/>
                  <a:pt x="3218" y="15453"/>
                  <a:pt x="3299" y="15429"/>
                </a:cubicBezTo>
              </a:path>
              <a:path w="2184" h="844">
                <a:moveTo>
                  <a:pt x="3373" y="14883"/>
                </a:moveTo>
                <a:cubicBezTo>
                  <a:pt x="3421" y="15050"/>
                  <a:pt x="3436" y="15231"/>
                  <a:pt x="3473" y="15404"/>
                </a:cubicBezTo>
                <a:cubicBezTo>
                  <a:pt x="3554" y="15180"/>
                  <a:pt x="3602" y="15128"/>
                  <a:pt x="3820" y="15230"/>
                </a:cubicBezTo>
                <a:cubicBezTo>
                  <a:pt x="3747" y="15448"/>
                  <a:pt x="3696" y="15465"/>
                  <a:pt x="3473" y="15404"/>
                </a:cubicBezTo>
              </a:path>
              <a:path w="2184" h="844">
                <a:moveTo>
                  <a:pt x="4068" y="14808"/>
                </a:moveTo>
                <a:cubicBezTo>
                  <a:pt x="4047" y="15008"/>
                  <a:pt x="4051" y="15180"/>
                  <a:pt x="4068" y="15379"/>
                </a:cubicBezTo>
                <a:cubicBezTo>
                  <a:pt x="4048" y="15269"/>
                  <a:pt x="4063" y="15185"/>
                  <a:pt x="4192" y="15131"/>
                </a:cubicBezTo>
                <a:cubicBezTo>
                  <a:pt x="4401" y="15043"/>
                  <a:pt x="4453" y="15203"/>
                  <a:pt x="4440" y="15379"/>
                </a:cubicBezTo>
                <a:cubicBezTo>
                  <a:pt x="4432" y="15412"/>
                  <a:pt x="4423" y="15445"/>
                  <a:pt x="4415" y="154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0960" y="5705640"/>
            <a:ext cx="249120" cy="125280"/>
          </a:xfrm>
          <a:custGeom>
            <a:avLst/>
            <a:gdLst/>
            <a:ahLst/>
            <a:rect l="l" t="t" r="r" b="b"/>
            <a:pathLst>
              <a:path w="695" h="348">
                <a:moveTo>
                  <a:pt x="2084" y="15900"/>
                </a:moveTo>
                <a:cubicBezTo>
                  <a:pt x="2108" y="15998"/>
                  <a:pt x="2141" y="16099"/>
                  <a:pt x="2158" y="16197"/>
                </a:cubicBezTo>
                <a:cubicBezTo>
                  <a:pt x="2178" y="16042"/>
                  <a:pt x="2191" y="15912"/>
                  <a:pt x="2356" y="15850"/>
                </a:cubicBezTo>
                <a:cubicBezTo>
                  <a:pt x="2505" y="15794"/>
                  <a:pt x="2677" y="16040"/>
                  <a:pt x="2729" y="16148"/>
                </a:cubicBezTo>
                <a:cubicBezTo>
                  <a:pt x="2729" y="16164"/>
                  <a:pt x="2729" y="16181"/>
                  <a:pt x="2729" y="16197"/>
                </a:cubicBezTo>
              </a:path>
              <a:path w="695" h="348">
                <a:moveTo>
                  <a:pt x="2406" y="15900"/>
                </a:moveTo>
                <a:cubicBezTo>
                  <a:pt x="2586" y="15951"/>
                  <a:pt x="2650" y="15968"/>
                  <a:pt x="2778" y="159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08080" y="5634000"/>
            <a:ext cx="919080" cy="241200"/>
          </a:xfrm>
          <a:custGeom>
            <a:avLst/>
            <a:gdLst/>
            <a:ahLst/>
            <a:rect l="l" t="t" r="r" b="b"/>
            <a:pathLst>
              <a:path w="2556" h="670">
                <a:moveTo>
                  <a:pt x="3076" y="16049"/>
                </a:moveTo>
                <a:cubicBezTo>
                  <a:pt x="3225" y="16024"/>
                  <a:pt x="3274" y="16016"/>
                  <a:pt x="3373" y="15999"/>
                </a:cubicBezTo>
              </a:path>
              <a:path w="2556" h="670">
                <a:moveTo>
                  <a:pt x="3150" y="16049"/>
                </a:moveTo>
                <a:cubicBezTo>
                  <a:pt x="3208" y="16032"/>
                  <a:pt x="3266" y="16016"/>
                  <a:pt x="3324" y="15999"/>
                </a:cubicBezTo>
              </a:path>
              <a:path w="2556" h="670">
                <a:moveTo>
                  <a:pt x="3770" y="15801"/>
                </a:moveTo>
                <a:cubicBezTo>
                  <a:pt x="3981" y="15850"/>
                  <a:pt x="4031" y="15906"/>
                  <a:pt x="4018" y="16123"/>
                </a:cubicBezTo>
                <a:cubicBezTo>
                  <a:pt x="3860" y="16141"/>
                  <a:pt x="3826" y="16135"/>
                  <a:pt x="3696" y="16049"/>
                </a:cubicBezTo>
                <a:cubicBezTo>
                  <a:pt x="3823" y="15935"/>
                  <a:pt x="3917" y="15985"/>
                  <a:pt x="4093" y="16024"/>
                </a:cubicBezTo>
              </a:path>
              <a:path w="2556" h="670">
                <a:moveTo>
                  <a:pt x="3398" y="15925"/>
                </a:moveTo>
                <a:cubicBezTo>
                  <a:pt x="3370" y="16164"/>
                  <a:pt x="3365" y="16160"/>
                  <a:pt x="3547" y="16321"/>
                </a:cubicBezTo>
              </a:path>
              <a:path w="2556" h="670">
                <a:moveTo>
                  <a:pt x="4167" y="15677"/>
                </a:moveTo>
                <a:cubicBezTo>
                  <a:pt x="4404" y="15882"/>
                  <a:pt x="4499" y="15974"/>
                  <a:pt x="4390" y="16272"/>
                </a:cubicBezTo>
              </a:path>
              <a:path w="2556" h="670">
                <a:moveTo>
                  <a:pt x="4713" y="15652"/>
                </a:moveTo>
                <a:cubicBezTo>
                  <a:pt x="4640" y="15821"/>
                  <a:pt x="4526" y="16018"/>
                  <a:pt x="4638" y="16197"/>
                </a:cubicBezTo>
                <a:cubicBezTo>
                  <a:pt x="4710" y="16245"/>
                  <a:pt x="4731" y="16263"/>
                  <a:pt x="4787" y="16222"/>
                </a:cubicBezTo>
              </a:path>
              <a:path w="2556" h="670">
                <a:moveTo>
                  <a:pt x="4862" y="15776"/>
                </a:moveTo>
                <a:cubicBezTo>
                  <a:pt x="4842" y="15914"/>
                  <a:pt x="4839" y="16011"/>
                  <a:pt x="4862" y="16148"/>
                </a:cubicBezTo>
              </a:path>
              <a:path w="2556" h="670">
                <a:moveTo>
                  <a:pt x="5060" y="15850"/>
                </a:moveTo>
                <a:cubicBezTo>
                  <a:pt x="5129" y="15882"/>
                  <a:pt x="5466" y="16063"/>
                  <a:pt x="5234" y="16148"/>
                </a:cubicBezTo>
                <a:cubicBezTo>
                  <a:pt x="5068" y="16209"/>
                  <a:pt x="5060" y="16095"/>
                  <a:pt x="5060" y="15999"/>
                </a:cubicBezTo>
                <a:cubicBezTo>
                  <a:pt x="5166" y="15989"/>
                  <a:pt x="5227" y="16024"/>
                  <a:pt x="5333" y="16073"/>
                </a:cubicBezTo>
              </a:path>
              <a:path w="2556" h="670">
                <a:moveTo>
                  <a:pt x="5507" y="15801"/>
                </a:moveTo>
                <a:cubicBezTo>
                  <a:pt x="5650" y="16086"/>
                  <a:pt x="5681" y="16028"/>
                  <a:pt x="5507" y="1627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4160" y="5919840"/>
            <a:ext cx="1179720" cy="268200"/>
          </a:xfrm>
          <a:custGeom>
            <a:avLst/>
            <a:gdLst/>
            <a:ahLst/>
            <a:rect l="l" t="t" r="r" b="b"/>
            <a:pathLst>
              <a:path w="3275" h="745">
                <a:moveTo>
                  <a:pt x="2530" y="16718"/>
                </a:moveTo>
                <a:cubicBezTo>
                  <a:pt x="2486" y="16891"/>
                  <a:pt x="2475" y="16932"/>
                  <a:pt x="2456" y="17041"/>
                </a:cubicBezTo>
                <a:cubicBezTo>
                  <a:pt x="2456" y="16853"/>
                  <a:pt x="2482" y="16696"/>
                  <a:pt x="2555" y="16520"/>
                </a:cubicBezTo>
                <a:cubicBezTo>
                  <a:pt x="2597" y="16457"/>
                  <a:pt x="2600" y="16432"/>
                  <a:pt x="2654" y="16446"/>
                </a:cubicBezTo>
                <a:cubicBezTo>
                  <a:pt x="2826" y="16698"/>
                  <a:pt x="2829" y="16839"/>
                  <a:pt x="2778" y="17140"/>
                </a:cubicBezTo>
              </a:path>
              <a:path w="3275" h="745">
                <a:moveTo>
                  <a:pt x="2505" y="16768"/>
                </a:moveTo>
                <a:cubicBezTo>
                  <a:pt x="2638" y="16768"/>
                  <a:pt x="2688" y="16767"/>
                  <a:pt x="2778" y="16743"/>
                </a:cubicBezTo>
              </a:path>
              <a:path w="3275" h="745">
                <a:moveTo>
                  <a:pt x="3076" y="16793"/>
                </a:moveTo>
                <a:cubicBezTo>
                  <a:pt x="3117" y="16776"/>
                  <a:pt x="3159" y="16760"/>
                  <a:pt x="3200" y="16743"/>
                </a:cubicBezTo>
              </a:path>
              <a:path w="3275" h="745">
                <a:moveTo>
                  <a:pt x="3125" y="16966"/>
                </a:moveTo>
                <a:cubicBezTo>
                  <a:pt x="3197" y="16966"/>
                  <a:pt x="3248" y="16945"/>
                  <a:pt x="3299" y="16892"/>
                </a:cubicBezTo>
              </a:path>
              <a:path w="3275" h="745">
                <a:moveTo>
                  <a:pt x="3845" y="16669"/>
                </a:moveTo>
                <a:cubicBezTo>
                  <a:pt x="3955" y="16669"/>
                  <a:pt x="3999" y="16673"/>
                  <a:pt x="4068" y="16718"/>
                </a:cubicBezTo>
                <a:cubicBezTo>
                  <a:pt x="4068" y="16964"/>
                  <a:pt x="3946" y="17222"/>
                  <a:pt x="3621" y="17190"/>
                </a:cubicBezTo>
                <a:cubicBezTo>
                  <a:pt x="3605" y="17165"/>
                  <a:pt x="3588" y="17140"/>
                  <a:pt x="3572" y="17115"/>
                </a:cubicBezTo>
                <a:cubicBezTo>
                  <a:pt x="3697" y="16997"/>
                  <a:pt x="3976" y="16751"/>
                  <a:pt x="4142" y="16991"/>
                </a:cubicBezTo>
                <a:cubicBezTo>
                  <a:pt x="4142" y="17024"/>
                  <a:pt x="4142" y="17057"/>
                  <a:pt x="4142" y="17090"/>
                </a:cubicBezTo>
              </a:path>
              <a:path w="3275" h="745">
                <a:moveTo>
                  <a:pt x="4266" y="16694"/>
                </a:moveTo>
                <a:cubicBezTo>
                  <a:pt x="4307" y="16865"/>
                  <a:pt x="4261" y="16854"/>
                  <a:pt x="4415" y="16842"/>
                </a:cubicBezTo>
              </a:path>
              <a:path w="3275" h="745">
                <a:moveTo>
                  <a:pt x="4564" y="16495"/>
                </a:moveTo>
                <a:cubicBezTo>
                  <a:pt x="4528" y="16662"/>
                  <a:pt x="4486" y="16826"/>
                  <a:pt x="4440" y="16991"/>
                </a:cubicBezTo>
              </a:path>
              <a:path w="3275" h="745">
                <a:moveTo>
                  <a:pt x="4688" y="16818"/>
                </a:moveTo>
                <a:cubicBezTo>
                  <a:pt x="4703" y="16938"/>
                  <a:pt x="4713" y="17044"/>
                  <a:pt x="4713" y="17165"/>
                </a:cubicBezTo>
                <a:cubicBezTo>
                  <a:pt x="4738" y="17071"/>
                  <a:pt x="4771" y="16698"/>
                  <a:pt x="4911" y="16842"/>
                </a:cubicBezTo>
                <a:cubicBezTo>
                  <a:pt x="4979" y="16954"/>
                  <a:pt x="5000" y="16982"/>
                  <a:pt x="5011" y="17066"/>
                </a:cubicBezTo>
                <a:cubicBezTo>
                  <a:pt x="5018" y="16948"/>
                  <a:pt x="5006" y="16898"/>
                  <a:pt x="5085" y="16842"/>
                </a:cubicBezTo>
                <a:cubicBezTo>
                  <a:pt x="5222" y="16906"/>
                  <a:pt x="5299" y="16950"/>
                  <a:pt x="5259" y="17115"/>
                </a:cubicBezTo>
              </a:path>
              <a:path w="3275" h="745">
                <a:moveTo>
                  <a:pt x="5507" y="16470"/>
                </a:moveTo>
                <a:cubicBezTo>
                  <a:pt x="5610" y="16545"/>
                  <a:pt x="5853" y="16721"/>
                  <a:pt x="5581" y="16793"/>
                </a:cubicBezTo>
                <a:cubicBezTo>
                  <a:pt x="5477" y="16820"/>
                  <a:pt x="5426" y="16790"/>
                  <a:pt x="5383" y="16718"/>
                </a:cubicBezTo>
                <a:cubicBezTo>
                  <a:pt x="5517" y="16706"/>
                  <a:pt x="5598" y="16708"/>
                  <a:pt x="5730" y="167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48120" y="5295960"/>
            <a:ext cx="393840" cy="295200"/>
          </a:xfrm>
          <a:custGeom>
            <a:avLst/>
            <a:gdLst/>
            <a:ahLst/>
            <a:rect l="l" t="t" r="r" b="b"/>
            <a:pathLst>
              <a:path w="1092" h="820">
                <a:moveTo>
                  <a:pt x="13618" y="14932"/>
                </a:moveTo>
                <a:cubicBezTo>
                  <a:pt x="13579" y="15136"/>
                  <a:pt x="13570" y="15340"/>
                  <a:pt x="13494" y="15528"/>
                </a:cubicBezTo>
                <a:cubicBezTo>
                  <a:pt x="13494" y="15272"/>
                  <a:pt x="13541" y="14899"/>
                  <a:pt x="13791" y="14734"/>
                </a:cubicBezTo>
                <a:cubicBezTo>
                  <a:pt x="13841" y="14726"/>
                  <a:pt x="13890" y="14717"/>
                  <a:pt x="13940" y="14709"/>
                </a:cubicBezTo>
                <a:cubicBezTo>
                  <a:pt x="14053" y="14964"/>
                  <a:pt x="14074" y="15151"/>
                  <a:pt x="14039" y="15429"/>
                </a:cubicBezTo>
              </a:path>
              <a:path w="1092" h="820">
                <a:moveTo>
                  <a:pt x="13667" y="15180"/>
                </a:moveTo>
                <a:cubicBezTo>
                  <a:pt x="13924" y="15157"/>
                  <a:pt x="13998" y="15151"/>
                  <a:pt x="14163" y="15131"/>
                </a:cubicBezTo>
              </a:path>
              <a:path w="1092" h="820">
                <a:moveTo>
                  <a:pt x="14288" y="15081"/>
                </a:moveTo>
                <a:cubicBezTo>
                  <a:pt x="14421" y="15081"/>
                  <a:pt x="14471" y="15080"/>
                  <a:pt x="14560" y="15056"/>
                </a:cubicBezTo>
              </a:path>
              <a:path w="1092" h="820">
                <a:moveTo>
                  <a:pt x="14213" y="15304"/>
                </a:moveTo>
                <a:cubicBezTo>
                  <a:pt x="14287" y="15288"/>
                  <a:pt x="14362" y="15271"/>
                  <a:pt x="14436" y="1525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57880" y="5313240"/>
            <a:ext cx="322200" cy="277920"/>
          </a:xfrm>
          <a:custGeom>
            <a:avLst/>
            <a:gdLst/>
            <a:ahLst/>
            <a:rect l="l" t="t" r="r" b="b"/>
            <a:pathLst>
              <a:path w="894" h="770">
                <a:moveTo>
                  <a:pt x="14883" y="14808"/>
                </a:moveTo>
                <a:cubicBezTo>
                  <a:pt x="14888" y="14999"/>
                  <a:pt x="14900" y="15188"/>
                  <a:pt x="14908" y="15379"/>
                </a:cubicBezTo>
                <a:cubicBezTo>
                  <a:pt x="14932" y="15233"/>
                  <a:pt x="15082" y="14965"/>
                  <a:pt x="15280" y="15131"/>
                </a:cubicBezTo>
                <a:cubicBezTo>
                  <a:pt x="15531" y="15341"/>
                  <a:pt x="15003" y="15407"/>
                  <a:pt x="14932" y="15404"/>
                </a:cubicBezTo>
              </a:path>
              <a:path w="894" h="770">
                <a:moveTo>
                  <a:pt x="15404" y="14759"/>
                </a:moveTo>
                <a:cubicBezTo>
                  <a:pt x="15412" y="14981"/>
                  <a:pt x="15445" y="15188"/>
                  <a:pt x="15478" y="15404"/>
                </a:cubicBezTo>
                <a:cubicBezTo>
                  <a:pt x="15478" y="15214"/>
                  <a:pt x="15504" y="15164"/>
                  <a:pt x="15627" y="15032"/>
                </a:cubicBezTo>
                <a:cubicBezTo>
                  <a:pt x="15727" y="15217"/>
                  <a:pt x="15760" y="15317"/>
                  <a:pt x="15776" y="155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84840" y="5616720"/>
            <a:ext cx="1036440" cy="277560"/>
          </a:xfrm>
          <a:custGeom>
            <a:avLst/>
            <a:gdLst/>
            <a:ahLst/>
            <a:rect l="l" t="t" r="r" b="b"/>
            <a:pathLst>
              <a:path w="2879" h="770">
                <a:moveTo>
                  <a:pt x="13568" y="15974"/>
                </a:moveTo>
                <a:cubicBezTo>
                  <a:pt x="13569" y="15979"/>
                  <a:pt x="13607" y="16479"/>
                  <a:pt x="13568" y="16321"/>
                </a:cubicBezTo>
                <a:cubicBezTo>
                  <a:pt x="13595" y="16079"/>
                  <a:pt x="13624" y="15900"/>
                  <a:pt x="13816" y="15751"/>
                </a:cubicBezTo>
                <a:cubicBezTo>
                  <a:pt x="13887" y="15955"/>
                  <a:pt x="13939" y="16134"/>
                  <a:pt x="13891" y="16346"/>
                </a:cubicBezTo>
              </a:path>
              <a:path w="2879" h="770">
                <a:moveTo>
                  <a:pt x="13593" y="16049"/>
                </a:moveTo>
                <a:cubicBezTo>
                  <a:pt x="13856" y="15996"/>
                  <a:pt x="13954" y="15978"/>
                  <a:pt x="14139" y="15974"/>
                </a:cubicBezTo>
              </a:path>
              <a:path w="2879" h="770">
                <a:moveTo>
                  <a:pt x="14387" y="15949"/>
                </a:moveTo>
                <a:cubicBezTo>
                  <a:pt x="14437" y="15941"/>
                  <a:pt x="14486" y="15933"/>
                  <a:pt x="14536" y="15925"/>
                </a:cubicBezTo>
              </a:path>
              <a:path w="2879" h="770">
                <a:moveTo>
                  <a:pt x="14312" y="16123"/>
                </a:moveTo>
                <a:cubicBezTo>
                  <a:pt x="14471" y="16096"/>
                  <a:pt x="14530" y="16085"/>
                  <a:pt x="14635" y="16049"/>
                </a:cubicBezTo>
              </a:path>
              <a:path w="2879" h="770">
                <a:moveTo>
                  <a:pt x="15230" y="15925"/>
                </a:moveTo>
                <a:cubicBezTo>
                  <a:pt x="15230" y="15761"/>
                  <a:pt x="15043" y="15790"/>
                  <a:pt x="14932" y="15850"/>
                </a:cubicBezTo>
                <a:cubicBezTo>
                  <a:pt x="14899" y="15883"/>
                  <a:pt x="14866" y="15916"/>
                  <a:pt x="14833" y="15949"/>
                </a:cubicBezTo>
                <a:cubicBezTo>
                  <a:pt x="14952" y="16014"/>
                  <a:pt x="15091" y="16039"/>
                  <a:pt x="15180" y="15900"/>
                </a:cubicBezTo>
                <a:cubicBezTo>
                  <a:pt x="15188" y="15875"/>
                  <a:pt x="15197" y="15850"/>
                  <a:pt x="15205" y="15825"/>
                </a:cubicBezTo>
                <a:cubicBezTo>
                  <a:pt x="15240" y="15964"/>
                  <a:pt x="15267" y="16105"/>
                  <a:pt x="15280" y="16247"/>
                </a:cubicBezTo>
              </a:path>
              <a:path w="2879" h="770">
                <a:moveTo>
                  <a:pt x="15627" y="15602"/>
                </a:moveTo>
                <a:cubicBezTo>
                  <a:pt x="15516" y="15751"/>
                  <a:pt x="15362" y="15975"/>
                  <a:pt x="15453" y="16173"/>
                </a:cubicBezTo>
                <a:cubicBezTo>
                  <a:pt x="15486" y="16198"/>
                  <a:pt x="15520" y="16222"/>
                  <a:pt x="15553" y="16247"/>
                </a:cubicBezTo>
              </a:path>
              <a:path w="2879" h="770">
                <a:moveTo>
                  <a:pt x="15801" y="15900"/>
                </a:moveTo>
                <a:cubicBezTo>
                  <a:pt x="15785" y="16004"/>
                  <a:pt x="15776" y="16092"/>
                  <a:pt x="15776" y="16197"/>
                </a:cubicBezTo>
              </a:path>
              <a:path w="2879" h="770">
                <a:moveTo>
                  <a:pt x="16024" y="15850"/>
                </a:moveTo>
                <a:cubicBezTo>
                  <a:pt x="16024" y="15947"/>
                  <a:pt x="16029" y="16029"/>
                  <a:pt x="16049" y="16123"/>
                </a:cubicBezTo>
              </a:path>
              <a:path w="2879" h="770">
                <a:moveTo>
                  <a:pt x="16346" y="15751"/>
                </a:moveTo>
                <a:cubicBezTo>
                  <a:pt x="16442" y="16029"/>
                  <a:pt x="16489" y="16036"/>
                  <a:pt x="16346" y="1627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8840" y="5875200"/>
            <a:ext cx="1258920" cy="322560"/>
          </a:xfrm>
          <a:custGeom>
            <a:avLst/>
            <a:gdLst/>
            <a:ahLst/>
            <a:rect l="l" t="t" r="r" b="b"/>
            <a:pathLst>
              <a:path w="3498" h="894">
                <a:moveTo>
                  <a:pt x="14064" y="16644"/>
                </a:moveTo>
                <a:cubicBezTo>
                  <a:pt x="13938" y="16723"/>
                  <a:pt x="13857" y="16988"/>
                  <a:pt x="13767" y="17140"/>
                </a:cubicBezTo>
                <a:cubicBezTo>
                  <a:pt x="13750" y="17165"/>
                  <a:pt x="13734" y="17189"/>
                  <a:pt x="13717" y="17214"/>
                </a:cubicBezTo>
                <a:cubicBezTo>
                  <a:pt x="13819" y="16971"/>
                  <a:pt x="13918" y="16700"/>
                  <a:pt x="14089" y="16495"/>
                </a:cubicBezTo>
                <a:cubicBezTo>
                  <a:pt x="14106" y="16487"/>
                  <a:pt x="14122" y="16478"/>
                  <a:pt x="14139" y="16470"/>
                </a:cubicBezTo>
                <a:cubicBezTo>
                  <a:pt x="14274" y="16697"/>
                  <a:pt x="14297" y="16829"/>
                  <a:pt x="14263" y="17090"/>
                </a:cubicBezTo>
              </a:path>
              <a:path w="3498" h="894">
                <a:moveTo>
                  <a:pt x="13965" y="16892"/>
                </a:moveTo>
                <a:cubicBezTo>
                  <a:pt x="14155" y="16865"/>
                  <a:pt x="14229" y="16855"/>
                  <a:pt x="14362" y="16842"/>
                </a:cubicBezTo>
              </a:path>
              <a:path w="3498" h="894">
                <a:moveTo>
                  <a:pt x="14709" y="16793"/>
                </a:moveTo>
                <a:cubicBezTo>
                  <a:pt x="14759" y="16793"/>
                  <a:pt x="14808" y="16793"/>
                  <a:pt x="14858" y="16793"/>
                </a:cubicBezTo>
              </a:path>
              <a:path w="3498" h="894">
                <a:moveTo>
                  <a:pt x="14610" y="16966"/>
                </a:moveTo>
                <a:cubicBezTo>
                  <a:pt x="14668" y="16950"/>
                  <a:pt x="14726" y="16933"/>
                  <a:pt x="14784" y="16917"/>
                </a:cubicBezTo>
              </a:path>
              <a:path w="3498" h="894">
                <a:moveTo>
                  <a:pt x="15404" y="16545"/>
                </a:moveTo>
                <a:cubicBezTo>
                  <a:pt x="15217" y="16607"/>
                  <a:pt x="15090" y="16653"/>
                  <a:pt x="15032" y="16842"/>
                </a:cubicBezTo>
                <a:cubicBezTo>
                  <a:pt x="15179" y="16794"/>
                  <a:pt x="15304" y="16738"/>
                  <a:pt x="15429" y="16644"/>
                </a:cubicBezTo>
                <a:cubicBezTo>
                  <a:pt x="15414" y="16805"/>
                  <a:pt x="15356" y="16956"/>
                  <a:pt x="15329" y="17115"/>
                </a:cubicBezTo>
                <a:cubicBezTo>
                  <a:pt x="15329" y="17132"/>
                  <a:pt x="15329" y="17148"/>
                  <a:pt x="15329" y="17165"/>
                </a:cubicBezTo>
              </a:path>
              <a:path w="3498" h="894">
                <a:moveTo>
                  <a:pt x="15925" y="16594"/>
                </a:moveTo>
                <a:cubicBezTo>
                  <a:pt x="15761" y="16497"/>
                  <a:pt x="15583" y="16575"/>
                  <a:pt x="15503" y="16768"/>
                </a:cubicBezTo>
                <a:cubicBezTo>
                  <a:pt x="15503" y="16809"/>
                  <a:pt x="15503" y="16851"/>
                  <a:pt x="15503" y="16892"/>
                </a:cubicBezTo>
                <a:cubicBezTo>
                  <a:pt x="15734" y="16959"/>
                  <a:pt x="15750" y="16804"/>
                  <a:pt x="15900" y="16644"/>
                </a:cubicBezTo>
                <a:cubicBezTo>
                  <a:pt x="16016" y="16521"/>
                  <a:pt x="15877" y="16979"/>
                  <a:pt x="15825" y="17140"/>
                </a:cubicBezTo>
              </a:path>
              <a:path w="3498" h="894">
                <a:moveTo>
                  <a:pt x="16297" y="16818"/>
                </a:moveTo>
                <a:cubicBezTo>
                  <a:pt x="16288" y="16920"/>
                  <a:pt x="16269" y="17015"/>
                  <a:pt x="16247" y="17115"/>
                </a:cubicBezTo>
              </a:path>
              <a:path w="3498" h="894">
                <a:moveTo>
                  <a:pt x="16272" y="16594"/>
                </a:moveTo>
                <a:lnTo>
                  <a:pt x="16272" y="16594"/>
                </a:lnTo>
              </a:path>
              <a:path w="3498" h="894">
                <a:moveTo>
                  <a:pt x="16446" y="16942"/>
                </a:moveTo>
                <a:cubicBezTo>
                  <a:pt x="16446" y="16975"/>
                  <a:pt x="16446" y="17008"/>
                  <a:pt x="16446" y="17041"/>
                </a:cubicBezTo>
                <a:cubicBezTo>
                  <a:pt x="16446" y="17001"/>
                  <a:pt x="16505" y="16826"/>
                  <a:pt x="16619" y="16743"/>
                </a:cubicBezTo>
                <a:cubicBezTo>
                  <a:pt x="16758" y="16641"/>
                  <a:pt x="16761" y="16916"/>
                  <a:pt x="16768" y="16991"/>
                </a:cubicBezTo>
              </a:path>
              <a:path w="3498" h="894">
                <a:moveTo>
                  <a:pt x="16917" y="16321"/>
                </a:moveTo>
                <a:cubicBezTo>
                  <a:pt x="17048" y="16402"/>
                  <a:pt x="17256" y="16581"/>
                  <a:pt x="16991" y="16694"/>
                </a:cubicBezTo>
                <a:cubicBezTo>
                  <a:pt x="16895" y="16694"/>
                  <a:pt x="16864" y="16696"/>
                  <a:pt x="16842" y="16619"/>
                </a:cubicBezTo>
                <a:cubicBezTo>
                  <a:pt x="16963" y="16469"/>
                  <a:pt x="17053" y="16524"/>
                  <a:pt x="17214" y="166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7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7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7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3450"/>
                            </p:stCondLst>
                            <p:childTnLst>
                              <p:par>
                                <p:cTn id="1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676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bjective:  Students will find the area of a parallelogram</a:t>
            </a: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 Use the diagram to find the area: 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 rot="4675800">
            <a:off x="1333080" y="2781000"/>
            <a:ext cx="2209680" cy="457200"/>
          </a:xfrm>
          <a:prstGeom prst="parallelogram">
            <a:avLst>
              <a:gd name="adj" fmla="val 120827"/>
            </a:avLst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5715000" y="2209320"/>
            <a:ext cx="1371600" cy="1219320"/>
          </a:xfrm>
          <a:prstGeom prst="parallelogram">
            <a:avLst>
              <a:gd name="adj" fmla="val 28122"/>
            </a:avLst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4648320"/>
            <a:ext cx="3886200" cy="914400"/>
          </a:xfrm>
          <a:prstGeom prst="parallelogram">
            <a:avLst>
              <a:gd name="adj" fmla="val 106250"/>
            </a:avLst>
          </a:prstGeom>
          <a:solidFill>
            <a:srgbClr val="ff00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514600" y="2437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2209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3886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26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4876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280" y="1633680"/>
            <a:ext cx="401760" cy="438120"/>
          </a:xfrm>
          <a:custGeom>
            <a:avLst/>
            <a:gdLst/>
            <a:ahLst/>
            <a:rect l="l" t="t" r="r" b="b"/>
            <a:pathLst>
              <a:path w="1117" h="1217">
                <a:moveTo>
                  <a:pt x="1091" y="4787"/>
                </a:moveTo>
                <a:cubicBezTo>
                  <a:pt x="1091" y="4557"/>
                  <a:pt x="1091" y="5001"/>
                  <a:pt x="1091" y="5011"/>
                </a:cubicBezTo>
                <a:cubicBezTo>
                  <a:pt x="1091" y="5160"/>
                  <a:pt x="1085" y="5195"/>
                  <a:pt x="1116" y="5283"/>
                </a:cubicBezTo>
              </a:path>
              <a:path w="1117" h="1217">
                <a:moveTo>
                  <a:pt x="620" y="5655"/>
                </a:moveTo>
                <a:cubicBezTo>
                  <a:pt x="881" y="5764"/>
                  <a:pt x="1159" y="5818"/>
                  <a:pt x="1364" y="5531"/>
                </a:cubicBezTo>
                <a:cubicBezTo>
                  <a:pt x="1532" y="5296"/>
                  <a:pt x="1515" y="4749"/>
                  <a:pt x="1240" y="4589"/>
                </a:cubicBezTo>
                <a:cubicBezTo>
                  <a:pt x="905" y="4394"/>
                  <a:pt x="432" y="4622"/>
                  <a:pt x="347" y="4986"/>
                </a:cubicBezTo>
                <a:cubicBezTo>
                  <a:pt x="258" y="5367"/>
                  <a:pt x="598" y="5462"/>
                  <a:pt x="843" y="56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76760" y="1795320"/>
            <a:ext cx="438120" cy="463680"/>
          </a:xfrm>
          <a:custGeom>
            <a:avLst/>
            <a:gdLst/>
            <a:ahLst/>
            <a:rect l="l" t="t" r="r" b="b"/>
            <a:pathLst>
              <a:path w="1217" h="1291">
                <a:moveTo>
                  <a:pt x="11112" y="5507"/>
                </a:moveTo>
                <a:cubicBezTo>
                  <a:pt x="11061" y="5507"/>
                  <a:pt x="11043" y="5508"/>
                  <a:pt x="11013" y="5531"/>
                </a:cubicBezTo>
                <a:cubicBezTo>
                  <a:pt x="11133" y="5367"/>
                  <a:pt x="11411" y="5356"/>
                  <a:pt x="11336" y="5680"/>
                </a:cubicBezTo>
                <a:cubicBezTo>
                  <a:pt x="11274" y="5947"/>
                  <a:pt x="10999" y="6032"/>
                  <a:pt x="10815" y="5904"/>
                </a:cubicBezTo>
                <a:cubicBezTo>
                  <a:pt x="10985" y="5806"/>
                  <a:pt x="11049" y="5852"/>
                  <a:pt x="11187" y="6003"/>
                </a:cubicBezTo>
              </a:path>
              <a:path w="1217" h="1291">
                <a:moveTo>
                  <a:pt x="10492" y="6028"/>
                </a:moveTo>
                <a:cubicBezTo>
                  <a:pt x="10797" y="6298"/>
                  <a:pt x="11158" y="6411"/>
                  <a:pt x="11509" y="6052"/>
                </a:cubicBezTo>
                <a:cubicBezTo>
                  <a:pt x="11777" y="5777"/>
                  <a:pt x="11833" y="5108"/>
                  <a:pt x="11361" y="4986"/>
                </a:cubicBezTo>
                <a:cubicBezTo>
                  <a:pt x="10907" y="4869"/>
                  <a:pt x="10369" y="5432"/>
                  <a:pt x="10567" y="5879"/>
                </a:cubicBezTo>
                <a:cubicBezTo>
                  <a:pt x="10764" y="6020"/>
                  <a:pt x="10851" y="6066"/>
                  <a:pt x="11038" y="60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2384280"/>
            <a:ext cx="839520" cy="295560"/>
          </a:xfrm>
          <a:custGeom>
            <a:avLst/>
            <a:gdLst/>
            <a:ahLst/>
            <a:rect l="l" t="t" r="r" b="b"/>
            <a:pathLst>
              <a:path w="2333" h="819">
                <a:moveTo>
                  <a:pt x="10864" y="6846"/>
                </a:moveTo>
                <a:cubicBezTo>
                  <a:pt x="10881" y="7068"/>
                  <a:pt x="10861" y="7229"/>
                  <a:pt x="10790" y="7441"/>
                </a:cubicBezTo>
                <a:cubicBezTo>
                  <a:pt x="10790" y="7263"/>
                  <a:pt x="10816" y="7110"/>
                  <a:pt x="10889" y="6945"/>
                </a:cubicBezTo>
                <a:cubicBezTo>
                  <a:pt x="10954" y="6837"/>
                  <a:pt x="10964" y="6806"/>
                  <a:pt x="11038" y="6772"/>
                </a:cubicBezTo>
                <a:cubicBezTo>
                  <a:pt x="11281" y="6848"/>
                  <a:pt x="11292" y="7013"/>
                  <a:pt x="11261" y="7268"/>
                </a:cubicBezTo>
                <a:cubicBezTo>
                  <a:pt x="11253" y="7301"/>
                  <a:pt x="11245" y="7334"/>
                  <a:pt x="11237" y="7367"/>
                </a:cubicBezTo>
              </a:path>
              <a:path w="2333" h="819">
                <a:moveTo>
                  <a:pt x="10864" y="7169"/>
                </a:moveTo>
                <a:cubicBezTo>
                  <a:pt x="11064" y="7096"/>
                  <a:pt x="11263" y="7024"/>
                  <a:pt x="11460" y="6945"/>
                </a:cubicBezTo>
              </a:path>
              <a:path w="2333" h="819">
                <a:moveTo>
                  <a:pt x="11658" y="6945"/>
                </a:moveTo>
                <a:cubicBezTo>
                  <a:pt x="11708" y="6929"/>
                  <a:pt x="11757" y="6912"/>
                  <a:pt x="11807" y="6896"/>
                </a:cubicBezTo>
              </a:path>
              <a:path w="2333" h="819">
                <a:moveTo>
                  <a:pt x="11559" y="7169"/>
                </a:moveTo>
                <a:cubicBezTo>
                  <a:pt x="11696" y="7141"/>
                  <a:pt x="11750" y="7127"/>
                  <a:pt x="11832" y="7069"/>
                </a:cubicBezTo>
              </a:path>
              <a:path w="2333" h="819">
                <a:moveTo>
                  <a:pt x="12080" y="6697"/>
                </a:moveTo>
                <a:cubicBezTo>
                  <a:pt x="12085" y="6869"/>
                  <a:pt x="12089" y="7003"/>
                  <a:pt x="12129" y="7169"/>
                </a:cubicBezTo>
                <a:cubicBezTo>
                  <a:pt x="12151" y="7037"/>
                  <a:pt x="12202" y="6799"/>
                  <a:pt x="12402" y="6871"/>
                </a:cubicBezTo>
                <a:cubicBezTo>
                  <a:pt x="12666" y="6967"/>
                  <a:pt x="12497" y="7188"/>
                  <a:pt x="12303" y="7193"/>
                </a:cubicBezTo>
                <a:cubicBezTo>
                  <a:pt x="12270" y="7185"/>
                  <a:pt x="12237" y="7177"/>
                  <a:pt x="12204" y="7169"/>
                </a:cubicBezTo>
              </a:path>
              <a:path w="2333" h="819">
                <a:moveTo>
                  <a:pt x="12601" y="6623"/>
                </a:moveTo>
                <a:cubicBezTo>
                  <a:pt x="12644" y="6796"/>
                  <a:pt x="12679" y="6970"/>
                  <a:pt x="12725" y="7144"/>
                </a:cubicBezTo>
                <a:cubicBezTo>
                  <a:pt x="12736" y="7005"/>
                  <a:pt x="12748" y="6642"/>
                  <a:pt x="12998" y="6821"/>
                </a:cubicBezTo>
                <a:cubicBezTo>
                  <a:pt x="13147" y="6928"/>
                  <a:pt x="13112" y="7045"/>
                  <a:pt x="13097" y="719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75040" y="2678040"/>
            <a:ext cx="1260360" cy="376200"/>
          </a:xfrm>
          <a:custGeom>
            <a:avLst/>
            <a:gdLst/>
            <a:ahLst/>
            <a:rect l="l" t="t" r="r" b="b"/>
            <a:pathLst>
              <a:path w="3499" h="1043">
                <a:moveTo>
                  <a:pt x="10790" y="8037"/>
                </a:moveTo>
                <a:cubicBezTo>
                  <a:pt x="10790" y="8186"/>
                  <a:pt x="10790" y="8334"/>
                  <a:pt x="10790" y="8483"/>
                </a:cubicBezTo>
                <a:cubicBezTo>
                  <a:pt x="10750" y="8217"/>
                  <a:pt x="10799" y="8055"/>
                  <a:pt x="10914" y="7813"/>
                </a:cubicBezTo>
                <a:cubicBezTo>
                  <a:pt x="11127" y="7905"/>
                  <a:pt x="11187" y="8113"/>
                  <a:pt x="11187" y="8359"/>
                </a:cubicBezTo>
                <a:cubicBezTo>
                  <a:pt x="11179" y="8392"/>
                  <a:pt x="11170" y="8425"/>
                  <a:pt x="11162" y="8458"/>
                </a:cubicBezTo>
              </a:path>
              <a:path w="3499" h="1043">
                <a:moveTo>
                  <a:pt x="10864" y="8310"/>
                </a:moveTo>
                <a:cubicBezTo>
                  <a:pt x="11051" y="8238"/>
                  <a:pt x="11240" y="8181"/>
                  <a:pt x="11435" y="8136"/>
                </a:cubicBezTo>
              </a:path>
              <a:path w="3499" h="1043">
                <a:moveTo>
                  <a:pt x="11683" y="8086"/>
                </a:moveTo>
                <a:cubicBezTo>
                  <a:pt x="11797" y="8041"/>
                  <a:pt x="11829" y="8027"/>
                  <a:pt x="11906" y="8012"/>
                </a:cubicBezTo>
              </a:path>
              <a:path w="3499" h="1043">
                <a:moveTo>
                  <a:pt x="11609" y="8260"/>
                </a:moveTo>
                <a:cubicBezTo>
                  <a:pt x="11709" y="8225"/>
                  <a:pt x="11808" y="8197"/>
                  <a:pt x="11906" y="8161"/>
                </a:cubicBezTo>
              </a:path>
              <a:path w="3499" h="1043">
                <a:moveTo>
                  <a:pt x="12229" y="7863"/>
                </a:moveTo>
                <a:cubicBezTo>
                  <a:pt x="12263" y="8022"/>
                  <a:pt x="12254" y="8192"/>
                  <a:pt x="12254" y="8359"/>
                </a:cubicBezTo>
              </a:path>
              <a:path w="3499" h="1043">
                <a:moveTo>
                  <a:pt x="12526" y="7813"/>
                </a:moveTo>
                <a:cubicBezTo>
                  <a:pt x="12509" y="7872"/>
                  <a:pt x="12452" y="8021"/>
                  <a:pt x="12551" y="8037"/>
                </a:cubicBezTo>
                <a:cubicBezTo>
                  <a:pt x="12676" y="8037"/>
                  <a:pt x="12718" y="8037"/>
                  <a:pt x="12799" y="8012"/>
                </a:cubicBezTo>
              </a:path>
              <a:path w="3499" h="1043">
                <a:moveTo>
                  <a:pt x="12725" y="7689"/>
                </a:moveTo>
                <a:cubicBezTo>
                  <a:pt x="12725" y="7873"/>
                  <a:pt x="12710" y="8052"/>
                  <a:pt x="12700" y="8235"/>
                </a:cubicBezTo>
              </a:path>
              <a:path w="3499" h="1043">
                <a:moveTo>
                  <a:pt x="13122" y="7516"/>
                </a:moveTo>
                <a:cubicBezTo>
                  <a:pt x="13041" y="7821"/>
                  <a:pt x="12955" y="8035"/>
                  <a:pt x="13146" y="8285"/>
                </a:cubicBezTo>
              </a:path>
              <a:path w="3499" h="1043">
                <a:moveTo>
                  <a:pt x="13395" y="7739"/>
                </a:moveTo>
                <a:cubicBezTo>
                  <a:pt x="13377" y="7890"/>
                  <a:pt x="13370" y="8033"/>
                  <a:pt x="13370" y="8186"/>
                </a:cubicBezTo>
              </a:path>
              <a:path w="3499" h="1043">
                <a:moveTo>
                  <a:pt x="13618" y="7739"/>
                </a:moveTo>
                <a:cubicBezTo>
                  <a:pt x="13572" y="7954"/>
                  <a:pt x="13553" y="7996"/>
                  <a:pt x="13643" y="8186"/>
                </a:cubicBezTo>
                <a:cubicBezTo>
                  <a:pt x="13831" y="8117"/>
                  <a:pt x="14059" y="7966"/>
                  <a:pt x="13816" y="7764"/>
                </a:cubicBezTo>
                <a:cubicBezTo>
                  <a:pt x="13766" y="7739"/>
                  <a:pt x="13717" y="7714"/>
                  <a:pt x="13667" y="7689"/>
                </a:cubicBezTo>
              </a:path>
              <a:path w="3499" h="1043">
                <a:moveTo>
                  <a:pt x="13841" y="7441"/>
                </a:moveTo>
                <a:cubicBezTo>
                  <a:pt x="14093" y="7775"/>
                  <a:pt x="14291" y="7951"/>
                  <a:pt x="14188" y="83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75040" y="3160800"/>
            <a:ext cx="169920" cy="250560"/>
          </a:xfrm>
          <a:custGeom>
            <a:avLst/>
            <a:gdLst/>
            <a:ahLst/>
            <a:rect l="l" t="t" r="r" b="b"/>
            <a:pathLst>
              <a:path w="473" h="695">
                <a:moveTo>
                  <a:pt x="10864" y="9004"/>
                </a:moveTo>
                <a:cubicBezTo>
                  <a:pt x="10837" y="9166"/>
                  <a:pt x="10808" y="9317"/>
                  <a:pt x="10765" y="9475"/>
                </a:cubicBezTo>
                <a:cubicBezTo>
                  <a:pt x="10790" y="9169"/>
                  <a:pt x="10793" y="8957"/>
                  <a:pt x="11038" y="8781"/>
                </a:cubicBezTo>
                <a:cubicBezTo>
                  <a:pt x="11202" y="8980"/>
                  <a:pt x="11187" y="9137"/>
                  <a:pt x="11187" y="9401"/>
                </a:cubicBezTo>
              </a:path>
              <a:path w="473" h="695">
                <a:moveTo>
                  <a:pt x="10864" y="9227"/>
                </a:moveTo>
                <a:cubicBezTo>
                  <a:pt x="11056" y="9156"/>
                  <a:pt x="11115" y="9134"/>
                  <a:pt x="11237" y="90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52960" y="3251160"/>
            <a:ext cx="88920" cy="7164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11534" y="9054"/>
                </a:moveTo>
                <a:cubicBezTo>
                  <a:pt x="11592" y="9046"/>
                  <a:pt x="11650" y="9037"/>
                  <a:pt x="11708" y="9029"/>
                </a:cubicBezTo>
              </a:path>
              <a:path w="249" h="199">
                <a:moveTo>
                  <a:pt x="11609" y="9227"/>
                </a:moveTo>
                <a:cubicBezTo>
                  <a:pt x="11667" y="9211"/>
                  <a:pt x="11724" y="9194"/>
                  <a:pt x="11782" y="91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64000" y="3133800"/>
            <a:ext cx="447840" cy="241200"/>
          </a:xfrm>
          <a:custGeom>
            <a:avLst/>
            <a:gdLst/>
            <a:ahLst/>
            <a:rect l="l" t="t" r="r" b="b"/>
            <a:pathLst>
              <a:path w="1242" h="671">
                <a:moveTo>
                  <a:pt x="12402" y="8880"/>
                </a:moveTo>
                <a:cubicBezTo>
                  <a:pt x="12402" y="9053"/>
                  <a:pt x="12412" y="9208"/>
                  <a:pt x="12452" y="9376"/>
                </a:cubicBezTo>
              </a:path>
              <a:path w="1242" h="671">
                <a:moveTo>
                  <a:pt x="12626" y="8930"/>
                </a:moveTo>
                <a:cubicBezTo>
                  <a:pt x="12605" y="9012"/>
                  <a:pt x="12597" y="9028"/>
                  <a:pt x="12601" y="9079"/>
                </a:cubicBezTo>
                <a:cubicBezTo>
                  <a:pt x="12719" y="9073"/>
                  <a:pt x="12810" y="9062"/>
                  <a:pt x="12923" y="9029"/>
                </a:cubicBezTo>
              </a:path>
              <a:path w="1242" h="671">
                <a:moveTo>
                  <a:pt x="12799" y="8830"/>
                </a:moveTo>
                <a:cubicBezTo>
                  <a:pt x="12804" y="8992"/>
                  <a:pt x="12810" y="9121"/>
                  <a:pt x="12849" y="9277"/>
                </a:cubicBezTo>
              </a:path>
              <a:path w="1242" h="671">
                <a:moveTo>
                  <a:pt x="13196" y="8706"/>
                </a:moveTo>
                <a:cubicBezTo>
                  <a:pt x="13077" y="8825"/>
                  <a:pt x="12948" y="9052"/>
                  <a:pt x="13072" y="9227"/>
                </a:cubicBezTo>
                <a:cubicBezTo>
                  <a:pt x="13113" y="9252"/>
                  <a:pt x="13155" y="9277"/>
                  <a:pt x="13196" y="9302"/>
                </a:cubicBezTo>
                <a:cubicBezTo>
                  <a:pt x="13417" y="9171"/>
                  <a:pt x="13555" y="9073"/>
                  <a:pt x="13345" y="8830"/>
                </a:cubicBezTo>
                <a:cubicBezTo>
                  <a:pt x="13312" y="8805"/>
                  <a:pt x="13279" y="8781"/>
                  <a:pt x="13246" y="8756"/>
                </a:cubicBezTo>
              </a:path>
              <a:path w="1242" h="671">
                <a:moveTo>
                  <a:pt x="13568" y="8855"/>
                </a:moveTo>
                <a:cubicBezTo>
                  <a:pt x="13598" y="8885"/>
                  <a:pt x="13609" y="8899"/>
                  <a:pt x="13618" y="8930"/>
                </a:cubicBezTo>
                <a:cubicBezTo>
                  <a:pt x="13457" y="8769"/>
                  <a:pt x="13463" y="9054"/>
                  <a:pt x="13543" y="9153"/>
                </a:cubicBezTo>
                <a:cubicBezTo>
                  <a:pt x="13576" y="9170"/>
                  <a:pt x="13610" y="9186"/>
                  <a:pt x="13643" y="92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18040" y="2982960"/>
            <a:ext cx="312840" cy="303120"/>
          </a:xfrm>
          <a:custGeom>
            <a:avLst/>
            <a:gdLst/>
            <a:ahLst/>
            <a:rect l="l" t="t" r="r" b="b"/>
            <a:pathLst>
              <a:path w="869" h="844">
                <a:moveTo>
                  <a:pt x="13940" y="8905"/>
                </a:moveTo>
                <a:cubicBezTo>
                  <a:pt x="13961" y="9029"/>
                  <a:pt x="13969" y="9053"/>
                  <a:pt x="13965" y="9128"/>
                </a:cubicBezTo>
                <a:cubicBezTo>
                  <a:pt x="13969" y="9023"/>
                  <a:pt x="13975" y="8601"/>
                  <a:pt x="14188" y="8855"/>
                </a:cubicBezTo>
                <a:cubicBezTo>
                  <a:pt x="14249" y="8977"/>
                  <a:pt x="14274" y="8996"/>
                  <a:pt x="14263" y="9079"/>
                </a:cubicBezTo>
                <a:cubicBezTo>
                  <a:pt x="14263" y="8980"/>
                  <a:pt x="14209" y="8749"/>
                  <a:pt x="14337" y="8706"/>
                </a:cubicBezTo>
                <a:cubicBezTo>
                  <a:pt x="14446" y="8670"/>
                  <a:pt x="14496" y="8956"/>
                  <a:pt x="14511" y="9004"/>
                </a:cubicBezTo>
              </a:path>
              <a:path w="869" h="844">
                <a:moveTo>
                  <a:pt x="14560" y="8285"/>
                </a:moveTo>
                <a:cubicBezTo>
                  <a:pt x="14684" y="8285"/>
                  <a:pt x="14791" y="8301"/>
                  <a:pt x="14808" y="8458"/>
                </a:cubicBezTo>
                <a:cubicBezTo>
                  <a:pt x="14828" y="8641"/>
                  <a:pt x="14636" y="8734"/>
                  <a:pt x="14585" y="8582"/>
                </a:cubicBezTo>
                <a:cubicBezTo>
                  <a:pt x="14699" y="8583"/>
                  <a:pt x="14715" y="8597"/>
                  <a:pt x="14808" y="868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32040" y="4411800"/>
            <a:ext cx="447840" cy="419040"/>
          </a:xfrm>
          <a:custGeom>
            <a:avLst/>
            <a:gdLst/>
            <a:ahLst/>
            <a:rect l="l" t="t" r="r" b="b"/>
            <a:pathLst>
              <a:path w="1241" h="1166">
                <a:moveTo>
                  <a:pt x="8062" y="12626"/>
                </a:moveTo>
                <a:cubicBezTo>
                  <a:pt x="8009" y="12677"/>
                  <a:pt x="8154" y="12568"/>
                  <a:pt x="8310" y="12650"/>
                </a:cubicBezTo>
                <a:cubicBezTo>
                  <a:pt x="8259" y="12747"/>
                  <a:pt x="8059" y="12923"/>
                  <a:pt x="8136" y="12874"/>
                </a:cubicBezTo>
                <a:cubicBezTo>
                  <a:pt x="8206" y="12881"/>
                  <a:pt x="8569" y="13002"/>
                  <a:pt x="8285" y="13097"/>
                </a:cubicBezTo>
                <a:cubicBezTo>
                  <a:pt x="8235" y="13097"/>
                  <a:pt x="8186" y="13097"/>
                  <a:pt x="8136" y="13097"/>
                </a:cubicBezTo>
              </a:path>
              <a:path w="1241" h="1166">
                <a:moveTo>
                  <a:pt x="7714" y="13196"/>
                </a:moveTo>
                <a:cubicBezTo>
                  <a:pt x="7947" y="13429"/>
                  <a:pt x="8236" y="13520"/>
                  <a:pt x="8558" y="13295"/>
                </a:cubicBezTo>
                <a:cubicBezTo>
                  <a:pt x="8822" y="13111"/>
                  <a:pt x="8967" y="12652"/>
                  <a:pt x="8706" y="12402"/>
                </a:cubicBezTo>
                <a:cubicBezTo>
                  <a:pt x="8291" y="12004"/>
                  <a:pt x="7528" y="12345"/>
                  <a:pt x="7590" y="12923"/>
                </a:cubicBezTo>
                <a:cubicBezTo>
                  <a:pt x="7684" y="13159"/>
                  <a:pt x="7708" y="13234"/>
                  <a:pt x="7863" y="133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6840" y="2295360"/>
            <a:ext cx="312480" cy="276480"/>
          </a:xfrm>
          <a:custGeom>
            <a:avLst/>
            <a:gdLst/>
            <a:ahLst/>
            <a:rect l="l" t="t" r="r" b="b"/>
            <a:pathLst>
              <a:path w="869" h="770">
                <a:moveTo>
                  <a:pt x="1017" y="6921"/>
                </a:moveTo>
                <a:cubicBezTo>
                  <a:pt x="1034" y="6921"/>
                  <a:pt x="1050" y="6921"/>
                  <a:pt x="1067" y="6921"/>
                </a:cubicBezTo>
              </a:path>
              <a:path w="869" h="770">
                <a:moveTo>
                  <a:pt x="1191" y="6648"/>
                </a:moveTo>
                <a:cubicBezTo>
                  <a:pt x="1202" y="6821"/>
                  <a:pt x="1162" y="6923"/>
                  <a:pt x="1240" y="7094"/>
                </a:cubicBezTo>
                <a:cubicBezTo>
                  <a:pt x="1331" y="6874"/>
                  <a:pt x="1287" y="6657"/>
                  <a:pt x="1339" y="6424"/>
                </a:cubicBezTo>
                <a:cubicBezTo>
                  <a:pt x="1347" y="6408"/>
                  <a:pt x="1356" y="6391"/>
                  <a:pt x="1364" y="6375"/>
                </a:cubicBezTo>
                <a:cubicBezTo>
                  <a:pt x="1474" y="6667"/>
                  <a:pt x="1525" y="6836"/>
                  <a:pt x="1463" y="7144"/>
                </a:cubicBezTo>
              </a:path>
              <a:path w="869" h="770">
                <a:moveTo>
                  <a:pt x="1315" y="6871"/>
                </a:moveTo>
                <a:cubicBezTo>
                  <a:pt x="1505" y="6823"/>
                  <a:pt x="1564" y="6808"/>
                  <a:pt x="1687" y="6772"/>
                </a:cubicBezTo>
              </a:path>
              <a:path w="869" h="770">
                <a:moveTo>
                  <a:pt x="1538" y="6970"/>
                </a:moveTo>
                <a:cubicBezTo>
                  <a:pt x="1677" y="6915"/>
                  <a:pt x="1733" y="6894"/>
                  <a:pt x="1836" y="6871"/>
                </a:cubicBezTo>
              </a:path>
              <a:path w="869" h="770">
                <a:moveTo>
                  <a:pt x="1712" y="7069"/>
                </a:moveTo>
                <a:cubicBezTo>
                  <a:pt x="1778" y="7069"/>
                  <a:pt x="1827" y="7069"/>
                  <a:pt x="1885" y="70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85880" y="2214720"/>
            <a:ext cx="615960" cy="384120"/>
          </a:xfrm>
          <a:custGeom>
            <a:avLst/>
            <a:gdLst/>
            <a:ahLst/>
            <a:rect l="l" t="t" r="r" b="b"/>
            <a:pathLst>
              <a:path w="1712" h="1067">
                <a:moveTo>
                  <a:pt x="2183" y="6424"/>
                </a:moveTo>
                <a:cubicBezTo>
                  <a:pt x="2200" y="6633"/>
                  <a:pt x="2208" y="6835"/>
                  <a:pt x="2208" y="7045"/>
                </a:cubicBezTo>
                <a:cubicBezTo>
                  <a:pt x="2345" y="6819"/>
                  <a:pt x="2404" y="6681"/>
                  <a:pt x="2629" y="6846"/>
                </a:cubicBezTo>
                <a:cubicBezTo>
                  <a:pt x="2533" y="7049"/>
                  <a:pt x="2462" y="7108"/>
                  <a:pt x="2232" y="7094"/>
                </a:cubicBezTo>
              </a:path>
              <a:path w="1712" h="1067">
                <a:moveTo>
                  <a:pt x="2927" y="6276"/>
                </a:moveTo>
                <a:cubicBezTo>
                  <a:pt x="2833" y="6508"/>
                  <a:pt x="2593" y="6933"/>
                  <a:pt x="2803" y="7169"/>
                </a:cubicBezTo>
                <a:cubicBezTo>
                  <a:pt x="2844" y="7185"/>
                  <a:pt x="2886" y="7202"/>
                  <a:pt x="2927" y="7218"/>
                </a:cubicBezTo>
              </a:path>
              <a:path w="1712" h="1067">
                <a:moveTo>
                  <a:pt x="3175" y="6524"/>
                </a:moveTo>
                <a:cubicBezTo>
                  <a:pt x="3175" y="6701"/>
                  <a:pt x="3166" y="6874"/>
                  <a:pt x="3200" y="7045"/>
                </a:cubicBezTo>
                <a:cubicBezTo>
                  <a:pt x="3200" y="6902"/>
                  <a:pt x="3171" y="6746"/>
                  <a:pt x="3299" y="6648"/>
                </a:cubicBezTo>
                <a:cubicBezTo>
                  <a:pt x="3324" y="6640"/>
                  <a:pt x="3348" y="6631"/>
                  <a:pt x="3373" y="6623"/>
                </a:cubicBezTo>
                <a:cubicBezTo>
                  <a:pt x="3446" y="6749"/>
                  <a:pt x="3484" y="6849"/>
                  <a:pt x="3497" y="6995"/>
                </a:cubicBezTo>
              </a:path>
              <a:path w="1712" h="1067">
                <a:moveTo>
                  <a:pt x="3597" y="6152"/>
                </a:moveTo>
                <a:cubicBezTo>
                  <a:pt x="3796" y="6393"/>
                  <a:pt x="3983" y="6613"/>
                  <a:pt x="3845" y="6945"/>
                </a:cubicBezTo>
                <a:cubicBezTo>
                  <a:pt x="3812" y="6995"/>
                  <a:pt x="3779" y="7044"/>
                  <a:pt x="3746" y="70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1120" y="2768760"/>
            <a:ext cx="295200" cy="285480"/>
          </a:xfrm>
          <a:custGeom>
            <a:avLst/>
            <a:gdLst/>
            <a:ahLst/>
            <a:rect l="l" t="t" r="r" b="b"/>
            <a:pathLst>
              <a:path w="820" h="795">
                <a:moveTo>
                  <a:pt x="1141" y="7863"/>
                </a:moveTo>
                <a:cubicBezTo>
                  <a:pt x="1141" y="8045"/>
                  <a:pt x="1133" y="8254"/>
                  <a:pt x="1166" y="8434"/>
                </a:cubicBezTo>
                <a:cubicBezTo>
                  <a:pt x="1191" y="8483"/>
                  <a:pt x="1199" y="8499"/>
                  <a:pt x="1166" y="8434"/>
                </a:cubicBezTo>
                <a:cubicBezTo>
                  <a:pt x="1194" y="8186"/>
                  <a:pt x="1225" y="7938"/>
                  <a:pt x="1240" y="7689"/>
                </a:cubicBezTo>
                <a:cubicBezTo>
                  <a:pt x="1434" y="7884"/>
                  <a:pt x="1498" y="8069"/>
                  <a:pt x="1463" y="8359"/>
                </a:cubicBezTo>
                <a:cubicBezTo>
                  <a:pt x="1455" y="8392"/>
                  <a:pt x="1447" y="8425"/>
                  <a:pt x="1439" y="8458"/>
                </a:cubicBezTo>
              </a:path>
              <a:path w="820" h="795">
                <a:moveTo>
                  <a:pt x="1215" y="8161"/>
                </a:moveTo>
                <a:cubicBezTo>
                  <a:pt x="1372" y="8135"/>
                  <a:pt x="1430" y="8125"/>
                  <a:pt x="1538" y="8111"/>
                </a:cubicBezTo>
              </a:path>
              <a:path w="820" h="795">
                <a:moveTo>
                  <a:pt x="1786" y="8086"/>
                </a:moveTo>
                <a:cubicBezTo>
                  <a:pt x="1870" y="8086"/>
                  <a:pt x="1904" y="8084"/>
                  <a:pt x="1960" y="8062"/>
                </a:cubicBezTo>
              </a:path>
              <a:path w="820" h="795">
                <a:moveTo>
                  <a:pt x="1687" y="8310"/>
                </a:moveTo>
                <a:cubicBezTo>
                  <a:pt x="1795" y="8288"/>
                  <a:pt x="1821" y="8285"/>
                  <a:pt x="1885" y="82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1800" y="2697120"/>
            <a:ext cx="687240" cy="347760"/>
          </a:xfrm>
          <a:custGeom>
            <a:avLst/>
            <a:gdLst/>
            <a:ahLst/>
            <a:rect l="l" t="t" r="r" b="b"/>
            <a:pathLst>
              <a:path w="1911" h="968">
                <a:moveTo>
                  <a:pt x="2902" y="7764"/>
                </a:moveTo>
                <a:cubicBezTo>
                  <a:pt x="2832" y="7722"/>
                  <a:pt x="2707" y="7727"/>
                  <a:pt x="2629" y="7764"/>
                </a:cubicBezTo>
                <a:cubicBezTo>
                  <a:pt x="2530" y="7811"/>
                  <a:pt x="2517" y="7832"/>
                  <a:pt x="2505" y="7913"/>
                </a:cubicBezTo>
                <a:cubicBezTo>
                  <a:pt x="2647" y="7991"/>
                  <a:pt x="2758" y="8038"/>
                  <a:pt x="2877" y="8136"/>
                </a:cubicBezTo>
                <a:cubicBezTo>
                  <a:pt x="2819" y="8227"/>
                  <a:pt x="2642" y="8409"/>
                  <a:pt x="2629" y="8161"/>
                </a:cubicBezTo>
                <a:cubicBezTo>
                  <a:pt x="2622" y="8021"/>
                  <a:pt x="2722" y="7933"/>
                  <a:pt x="2803" y="7838"/>
                </a:cubicBezTo>
              </a:path>
              <a:path w="1911" h="968">
                <a:moveTo>
                  <a:pt x="3299" y="7590"/>
                </a:moveTo>
                <a:cubicBezTo>
                  <a:pt x="3219" y="7749"/>
                  <a:pt x="2976" y="8110"/>
                  <a:pt x="3150" y="8285"/>
                </a:cubicBezTo>
                <a:cubicBezTo>
                  <a:pt x="3183" y="8293"/>
                  <a:pt x="3216" y="8302"/>
                  <a:pt x="3249" y="8310"/>
                </a:cubicBezTo>
              </a:path>
              <a:path w="1911" h="968">
                <a:moveTo>
                  <a:pt x="3497" y="7813"/>
                </a:moveTo>
                <a:cubicBezTo>
                  <a:pt x="3525" y="7979"/>
                  <a:pt x="3549" y="8141"/>
                  <a:pt x="3572" y="8310"/>
                </a:cubicBezTo>
              </a:path>
              <a:path w="1911" h="968">
                <a:moveTo>
                  <a:pt x="3721" y="7863"/>
                </a:moveTo>
                <a:cubicBezTo>
                  <a:pt x="3906" y="7826"/>
                  <a:pt x="3964" y="7862"/>
                  <a:pt x="3845" y="8086"/>
                </a:cubicBezTo>
                <a:cubicBezTo>
                  <a:pt x="3812" y="8127"/>
                  <a:pt x="3779" y="8169"/>
                  <a:pt x="3746" y="8210"/>
                </a:cubicBezTo>
                <a:cubicBezTo>
                  <a:pt x="3792" y="8306"/>
                  <a:pt x="3954" y="8213"/>
                  <a:pt x="4043" y="8186"/>
                </a:cubicBezTo>
              </a:path>
              <a:path w="1911" h="968">
                <a:moveTo>
                  <a:pt x="4018" y="7491"/>
                </a:moveTo>
                <a:cubicBezTo>
                  <a:pt x="4245" y="7717"/>
                  <a:pt x="4492" y="7922"/>
                  <a:pt x="4415" y="8285"/>
                </a:cubicBezTo>
                <a:cubicBezTo>
                  <a:pt x="4382" y="8343"/>
                  <a:pt x="4349" y="8400"/>
                  <a:pt x="4316" y="84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040" y="3268800"/>
            <a:ext cx="179640" cy="231480"/>
          </a:xfrm>
          <a:custGeom>
            <a:avLst/>
            <a:gdLst/>
            <a:ahLst/>
            <a:rect l="l" t="t" r="r" b="b"/>
            <a:pathLst>
              <a:path w="498" h="645">
                <a:moveTo>
                  <a:pt x="1240" y="9252"/>
                </a:moveTo>
                <a:cubicBezTo>
                  <a:pt x="1112" y="9289"/>
                  <a:pt x="1163" y="9498"/>
                  <a:pt x="1141" y="9624"/>
                </a:cubicBezTo>
                <a:cubicBezTo>
                  <a:pt x="1133" y="9657"/>
                  <a:pt x="1124" y="9690"/>
                  <a:pt x="1116" y="9723"/>
                </a:cubicBezTo>
                <a:cubicBezTo>
                  <a:pt x="1087" y="9580"/>
                  <a:pt x="1137" y="9368"/>
                  <a:pt x="1191" y="9227"/>
                </a:cubicBezTo>
                <a:cubicBezTo>
                  <a:pt x="1258" y="9115"/>
                  <a:pt x="1269" y="9077"/>
                  <a:pt x="1364" y="9079"/>
                </a:cubicBezTo>
                <a:cubicBezTo>
                  <a:pt x="1526" y="9262"/>
                  <a:pt x="1566" y="9425"/>
                  <a:pt x="1588" y="9674"/>
                </a:cubicBezTo>
              </a:path>
              <a:path w="498" h="645">
                <a:moveTo>
                  <a:pt x="1191" y="9376"/>
                </a:moveTo>
                <a:cubicBezTo>
                  <a:pt x="1356" y="9348"/>
                  <a:pt x="1422" y="9338"/>
                  <a:pt x="1538" y="93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240" y="3321000"/>
            <a:ext cx="44640" cy="81000"/>
          </a:xfrm>
          <a:custGeom>
            <a:avLst/>
            <a:gdLst/>
            <a:ahLst/>
            <a:rect l="l" t="t" r="r" b="b"/>
            <a:pathLst>
              <a:path w="125" h="225">
                <a:moveTo>
                  <a:pt x="2009" y="9277"/>
                </a:moveTo>
                <a:cubicBezTo>
                  <a:pt x="2042" y="9260"/>
                  <a:pt x="2075" y="9244"/>
                  <a:pt x="2108" y="9227"/>
                </a:cubicBezTo>
              </a:path>
              <a:path w="125" h="225">
                <a:moveTo>
                  <a:pt x="1984" y="9451"/>
                </a:moveTo>
                <a:cubicBezTo>
                  <a:pt x="2025" y="9434"/>
                  <a:pt x="2067" y="9418"/>
                  <a:pt x="2108" y="94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38160" y="3178080"/>
            <a:ext cx="793800" cy="277920"/>
          </a:xfrm>
          <a:custGeom>
            <a:avLst/>
            <a:gdLst/>
            <a:ahLst/>
            <a:rect l="l" t="t" r="r" b="b"/>
            <a:pathLst>
              <a:path w="2209" h="770">
                <a:moveTo>
                  <a:pt x="3001" y="9203"/>
                </a:moveTo>
                <a:cubicBezTo>
                  <a:pt x="2942" y="9025"/>
                  <a:pt x="2761" y="9033"/>
                  <a:pt x="2629" y="9178"/>
                </a:cubicBezTo>
                <a:cubicBezTo>
                  <a:pt x="2621" y="9211"/>
                  <a:pt x="2612" y="9244"/>
                  <a:pt x="2604" y="9277"/>
                </a:cubicBezTo>
                <a:cubicBezTo>
                  <a:pt x="2806" y="9320"/>
                  <a:pt x="2853" y="9267"/>
                  <a:pt x="3001" y="9128"/>
                </a:cubicBezTo>
                <a:cubicBezTo>
                  <a:pt x="3041" y="9286"/>
                  <a:pt x="3024" y="9436"/>
                  <a:pt x="3001" y="9599"/>
                </a:cubicBezTo>
              </a:path>
              <a:path w="2209" h="770">
                <a:moveTo>
                  <a:pt x="3299" y="9029"/>
                </a:moveTo>
                <a:cubicBezTo>
                  <a:pt x="3299" y="9201"/>
                  <a:pt x="3284" y="9357"/>
                  <a:pt x="3299" y="9525"/>
                </a:cubicBezTo>
                <a:cubicBezTo>
                  <a:pt x="3438" y="9558"/>
                  <a:pt x="3685" y="9523"/>
                  <a:pt x="3696" y="9302"/>
                </a:cubicBezTo>
                <a:cubicBezTo>
                  <a:pt x="3701" y="9201"/>
                  <a:pt x="3506" y="9487"/>
                  <a:pt x="3497" y="9575"/>
                </a:cubicBezTo>
              </a:path>
              <a:path w="2209" h="770">
                <a:moveTo>
                  <a:pt x="3820" y="9327"/>
                </a:moveTo>
                <a:cubicBezTo>
                  <a:pt x="3820" y="9409"/>
                  <a:pt x="3820" y="9426"/>
                  <a:pt x="3820" y="9475"/>
                </a:cubicBezTo>
                <a:cubicBezTo>
                  <a:pt x="3840" y="9402"/>
                  <a:pt x="3912" y="9123"/>
                  <a:pt x="4043" y="9302"/>
                </a:cubicBezTo>
                <a:cubicBezTo>
                  <a:pt x="4102" y="9382"/>
                  <a:pt x="4093" y="9439"/>
                  <a:pt x="4093" y="9525"/>
                </a:cubicBezTo>
                <a:cubicBezTo>
                  <a:pt x="4047" y="9340"/>
                  <a:pt x="4077" y="9294"/>
                  <a:pt x="4217" y="9178"/>
                </a:cubicBezTo>
                <a:cubicBezTo>
                  <a:pt x="4317" y="9262"/>
                  <a:pt x="4402" y="9320"/>
                  <a:pt x="4366" y="9451"/>
                </a:cubicBezTo>
              </a:path>
              <a:path w="2209" h="770">
                <a:moveTo>
                  <a:pt x="4539" y="8855"/>
                </a:moveTo>
                <a:cubicBezTo>
                  <a:pt x="4659" y="8840"/>
                  <a:pt x="4885" y="8854"/>
                  <a:pt x="4762" y="9054"/>
                </a:cubicBezTo>
                <a:cubicBezTo>
                  <a:pt x="4684" y="9105"/>
                  <a:pt x="4655" y="9123"/>
                  <a:pt x="4589" y="9128"/>
                </a:cubicBezTo>
                <a:cubicBezTo>
                  <a:pt x="4572" y="9112"/>
                  <a:pt x="4556" y="9095"/>
                  <a:pt x="4539" y="9079"/>
                </a:cubicBezTo>
                <a:cubicBezTo>
                  <a:pt x="4591" y="8976"/>
                  <a:pt x="4697" y="9063"/>
                  <a:pt x="4812" y="91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4880" y="2340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458" y="6499"/>
                </a:moveTo>
                <a:lnTo>
                  <a:pt x="8458" y="649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55960" y="2108160"/>
            <a:ext cx="27000" cy="61920"/>
          </a:xfrm>
          <a:custGeom>
            <a:avLst/>
            <a:gdLst/>
            <a:ahLst/>
            <a:rect l="l" t="t" r="r" b="b"/>
            <a:pathLst>
              <a:path w="76" h="175">
                <a:moveTo>
                  <a:pt x="8210" y="5854"/>
                </a:moveTo>
                <a:cubicBezTo>
                  <a:pt x="8227" y="5913"/>
                  <a:pt x="8256" y="5971"/>
                  <a:pt x="8285" y="60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28960" y="1776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136" y="4936"/>
                </a:moveTo>
                <a:lnTo>
                  <a:pt x="8136" y="4936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4680" y="4259160"/>
            <a:ext cx="768240" cy="277920"/>
          </a:xfrm>
          <a:custGeom>
            <a:avLst/>
            <a:gdLst/>
            <a:ahLst/>
            <a:rect l="l" t="t" r="r" b="b"/>
            <a:pathLst>
              <a:path w="2134" h="770">
                <a:moveTo>
                  <a:pt x="1513" y="12229"/>
                </a:moveTo>
                <a:cubicBezTo>
                  <a:pt x="1545" y="12311"/>
                  <a:pt x="1588" y="12713"/>
                  <a:pt x="1588" y="12477"/>
                </a:cubicBezTo>
                <a:cubicBezTo>
                  <a:pt x="1610" y="12323"/>
                  <a:pt x="1632" y="12204"/>
                  <a:pt x="1662" y="12055"/>
                </a:cubicBezTo>
                <a:cubicBezTo>
                  <a:pt x="1876" y="12156"/>
                  <a:pt x="1967" y="12284"/>
                  <a:pt x="2009" y="12526"/>
                </a:cubicBezTo>
                <a:cubicBezTo>
                  <a:pt x="2009" y="12551"/>
                  <a:pt x="2009" y="12576"/>
                  <a:pt x="2009" y="12601"/>
                </a:cubicBezTo>
              </a:path>
              <a:path w="2134" h="770">
                <a:moveTo>
                  <a:pt x="1662" y="12502"/>
                </a:moveTo>
                <a:cubicBezTo>
                  <a:pt x="1778" y="12479"/>
                  <a:pt x="1811" y="12472"/>
                  <a:pt x="1885" y="12452"/>
                </a:cubicBezTo>
              </a:path>
              <a:path w="2134" h="770">
                <a:moveTo>
                  <a:pt x="2133" y="12402"/>
                </a:moveTo>
                <a:cubicBezTo>
                  <a:pt x="2267" y="12358"/>
                  <a:pt x="2303" y="12348"/>
                  <a:pt x="2381" y="12303"/>
                </a:cubicBezTo>
              </a:path>
              <a:path w="2134" h="770">
                <a:moveTo>
                  <a:pt x="2183" y="12526"/>
                </a:moveTo>
                <a:cubicBezTo>
                  <a:pt x="2208" y="12510"/>
                  <a:pt x="2232" y="12493"/>
                  <a:pt x="2257" y="12477"/>
                </a:cubicBezTo>
              </a:path>
              <a:path w="2134" h="770">
                <a:moveTo>
                  <a:pt x="2580" y="11956"/>
                </a:moveTo>
                <a:cubicBezTo>
                  <a:pt x="2658" y="12131"/>
                  <a:pt x="2712" y="12290"/>
                  <a:pt x="2753" y="12477"/>
                </a:cubicBezTo>
                <a:cubicBezTo>
                  <a:pt x="2794" y="12176"/>
                  <a:pt x="2831" y="12112"/>
                  <a:pt x="3101" y="12254"/>
                </a:cubicBezTo>
                <a:cubicBezTo>
                  <a:pt x="3086" y="12392"/>
                  <a:pt x="3032" y="12574"/>
                  <a:pt x="2828" y="12502"/>
                </a:cubicBezTo>
                <a:cubicBezTo>
                  <a:pt x="2795" y="12477"/>
                  <a:pt x="2762" y="12452"/>
                  <a:pt x="2729" y="12427"/>
                </a:cubicBezTo>
              </a:path>
              <a:path w="2134" h="770">
                <a:moveTo>
                  <a:pt x="3125" y="11832"/>
                </a:moveTo>
                <a:cubicBezTo>
                  <a:pt x="3163" y="12020"/>
                  <a:pt x="3211" y="12210"/>
                  <a:pt x="3249" y="12402"/>
                </a:cubicBezTo>
                <a:cubicBezTo>
                  <a:pt x="3257" y="12230"/>
                  <a:pt x="3243" y="12001"/>
                  <a:pt x="3497" y="12105"/>
                </a:cubicBezTo>
                <a:cubicBezTo>
                  <a:pt x="3692" y="12185"/>
                  <a:pt x="3640" y="12372"/>
                  <a:pt x="3597" y="125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1960" y="4670280"/>
            <a:ext cx="358920" cy="295560"/>
          </a:xfrm>
          <a:custGeom>
            <a:avLst/>
            <a:gdLst/>
            <a:ahLst/>
            <a:rect l="l" t="t" r="r" b="b"/>
            <a:pathLst>
              <a:path w="993" h="819">
                <a:moveTo>
                  <a:pt x="1588" y="13221"/>
                </a:moveTo>
                <a:cubicBezTo>
                  <a:pt x="1567" y="13241"/>
                  <a:pt x="1607" y="13578"/>
                  <a:pt x="1612" y="13717"/>
                </a:cubicBezTo>
                <a:cubicBezTo>
                  <a:pt x="1612" y="13980"/>
                  <a:pt x="1588" y="13321"/>
                  <a:pt x="1588" y="13320"/>
                </a:cubicBezTo>
                <a:cubicBezTo>
                  <a:pt x="1598" y="13142"/>
                  <a:pt x="1654" y="12997"/>
                  <a:pt x="1811" y="12998"/>
                </a:cubicBezTo>
                <a:cubicBezTo>
                  <a:pt x="1967" y="13223"/>
                  <a:pt x="2028" y="13393"/>
                  <a:pt x="2059" y="13667"/>
                </a:cubicBezTo>
                <a:cubicBezTo>
                  <a:pt x="2059" y="13684"/>
                  <a:pt x="2059" y="13700"/>
                  <a:pt x="2059" y="13717"/>
                </a:cubicBezTo>
              </a:path>
              <a:path w="993" h="819">
                <a:moveTo>
                  <a:pt x="1637" y="13519"/>
                </a:moveTo>
                <a:cubicBezTo>
                  <a:pt x="1796" y="13472"/>
                  <a:pt x="1947" y="13410"/>
                  <a:pt x="2108" y="13370"/>
                </a:cubicBezTo>
              </a:path>
              <a:path w="993" h="819">
                <a:moveTo>
                  <a:pt x="2307" y="13370"/>
                </a:moveTo>
                <a:cubicBezTo>
                  <a:pt x="2406" y="13350"/>
                  <a:pt x="2421" y="13342"/>
                  <a:pt x="2480" y="13345"/>
                </a:cubicBezTo>
              </a:path>
              <a:path w="993" h="819">
                <a:moveTo>
                  <a:pt x="2232" y="13593"/>
                </a:moveTo>
                <a:cubicBezTo>
                  <a:pt x="2345" y="13566"/>
                  <a:pt x="2447" y="13539"/>
                  <a:pt x="2555" y="134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4720" y="4554360"/>
            <a:ext cx="608040" cy="374760"/>
          </a:xfrm>
          <a:custGeom>
            <a:avLst/>
            <a:gdLst/>
            <a:ahLst/>
            <a:rect l="l" t="t" r="r" b="b"/>
            <a:pathLst>
              <a:path w="1688" h="1043">
                <a:moveTo>
                  <a:pt x="3200" y="12998"/>
                </a:moveTo>
                <a:cubicBezTo>
                  <a:pt x="3108" y="12990"/>
                  <a:pt x="3026" y="12936"/>
                  <a:pt x="2977" y="13022"/>
                </a:cubicBezTo>
                <a:cubicBezTo>
                  <a:pt x="2905" y="13148"/>
                  <a:pt x="2894" y="13182"/>
                  <a:pt x="2927" y="13320"/>
                </a:cubicBezTo>
                <a:cubicBezTo>
                  <a:pt x="2935" y="13353"/>
                  <a:pt x="2944" y="13386"/>
                  <a:pt x="2952" y="13419"/>
                </a:cubicBezTo>
                <a:cubicBezTo>
                  <a:pt x="3134" y="13385"/>
                  <a:pt x="3228" y="13325"/>
                  <a:pt x="3200" y="13122"/>
                </a:cubicBezTo>
                <a:cubicBezTo>
                  <a:pt x="3179" y="13039"/>
                  <a:pt x="3171" y="13024"/>
                  <a:pt x="3175" y="12973"/>
                </a:cubicBezTo>
                <a:cubicBezTo>
                  <a:pt x="3199" y="13214"/>
                  <a:pt x="3200" y="13449"/>
                  <a:pt x="3200" y="13692"/>
                </a:cubicBezTo>
              </a:path>
              <a:path w="1688" h="1043">
                <a:moveTo>
                  <a:pt x="3621" y="12824"/>
                </a:moveTo>
                <a:cubicBezTo>
                  <a:pt x="3510" y="13035"/>
                  <a:pt x="3426" y="13346"/>
                  <a:pt x="3497" y="13593"/>
                </a:cubicBezTo>
                <a:cubicBezTo>
                  <a:pt x="3572" y="13693"/>
                  <a:pt x="3598" y="13725"/>
                  <a:pt x="3696" y="13667"/>
                </a:cubicBezTo>
              </a:path>
              <a:path w="1688" h="1043">
                <a:moveTo>
                  <a:pt x="3969" y="12898"/>
                </a:moveTo>
                <a:cubicBezTo>
                  <a:pt x="3824" y="12971"/>
                  <a:pt x="3795" y="12989"/>
                  <a:pt x="3770" y="13171"/>
                </a:cubicBezTo>
                <a:cubicBezTo>
                  <a:pt x="3770" y="13212"/>
                  <a:pt x="3770" y="13254"/>
                  <a:pt x="3770" y="13295"/>
                </a:cubicBezTo>
                <a:cubicBezTo>
                  <a:pt x="3879" y="13238"/>
                  <a:pt x="4061" y="13032"/>
                  <a:pt x="4192" y="13171"/>
                </a:cubicBezTo>
                <a:cubicBezTo>
                  <a:pt x="4419" y="13414"/>
                  <a:pt x="4079" y="13520"/>
                  <a:pt x="3919" y="13568"/>
                </a:cubicBezTo>
              </a:path>
              <a:path w="1688" h="1043">
                <a:moveTo>
                  <a:pt x="4118" y="12650"/>
                </a:moveTo>
                <a:cubicBezTo>
                  <a:pt x="4514" y="13002"/>
                  <a:pt x="4607" y="13103"/>
                  <a:pt x="4490" y="136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240" y="4894200"/>
            <a:ext cx="1339920" cy="517680"/>
          </a:xfrm>
          <a:custGeom>
            <a:avLst/>
            <a:gdLst/>
            <a:ahLst/>
            <a:rect l="l" t="t" r="r" b="b"/>
            <a:pathLst>
              <a:path w="3722" h="1440">
                <a:moveTo>
                  <a:pt x="1910" y="14362"/>
                </a:moveTo>
                <a:cubicBezTo>
                  <a:pt x="1879" y="14576"/>
                  <a:pt x="1824" y="14792"/>
                  <a:pt x="1786" y="15007"/>
                </a:cubicBezTo>
                <a:cubicBezTo>
                  <a:pt x="1743" y="14737"/>
                  <a:pt x="1742" y="14467"/>
                  <a:pt x="1860" y="14213"/>
                </a:cubicBezTo>
                <a:cubicBezTo>
                  <a:pt x="1877" y="14196"/>
                  <a:pt x="1893" y="14180"/>
                  <a:pt x="1910" y="14163"/>
                </a:cubicBezTo>
                <a:cubicBezTo>
                  <a:pt x="2079" y="14403"/>
                  <a:pt x="2220" y="14643"/>
                  <a:pt x="2158" y="14957"/>
                </a:cubicBezTo>
                <a:cubicBezTo>
                  <a:pt x="2141" y="14982"/>
                  <a:pt x="2125" y="15007"/>
                  <a:pt x="2108" y="15032"/>
                </a:cubicBezTo>
              </a:path>
              <a:path w="3722" h="1440">
                <a:moveTo>
                  <a:pt x="1786" y="14759"/>
                </a:moveTo>
                <a:cubicBezTo>
                  <a:pt x="1966" y="14656"/>
                  <a:pt x="2031" y="14620"/>
                  <a:pt x="2158" y="14560"/>
                </a:cubicBezTo>
              </a:path>
              <a:path w="3722" h="1440">
                <a:moveTo>
                  <a:pt x="2629" y="14362"/>
                </a:moveTo>
                <a:cubicBezTo>
                  <a:pt x="2687" y="14345"/>
                  <a:pt x="2745" y="14329"/>
                  <a:pt x="2803" y="14312"/>
                </a:cubicBezTo>
              </a:path>
              <a:path w="3722" h="1440">
                <a:moveTo>
                  <a:pt x="2480" y="14684"/>
                </a:moveTo>
                <a:cubicBezTo>
                  <a:pt x="2594" y="14657"/>
                  <a:pt x="2639" y="14641"/>
                  <a:pt x="2704" y="14585"/>
                </a:cubicBezTo>
              </a:path>
              <a:path w="3722" h="1440">
                <a:moveTo>
                  <a:pt x="3051" y="14312"/>
                </a:moveTo>
                <a:cubicBezTo>
                  <a:pt x="2991" y="14610"/>
                  <a:pt x="3008" y="14628"/>
                  <a:pt x="3299" y="14536"/>
                </a:cubicBezTo>
              </a:path>
              <a:path w="3722" h="1440">
                <a:moveTo>
                  <a:pt x="3349" y="14139"/>
                </a:moveTo>
                <a:cubicBezTo>
                  <a:pt x="3349" y="14362"/>
                  <a:pt x="3349" y="14585"/>
                  <a:pt x="3349" y="14808"/>
                </a:cubicBezTo>
              </a:path>
              <a:path w="3722" h="1440">
                <a:moveTo>
                  <a:pt x="3919" y="13990"/>
                </a:moveTo>
                <a:cubicBezTo>
                  <a:pt x="3726" y="14047"/>
                  <a:pt x="3653" y="14027"/>
                  <a:pt x="3621" y="14213"/>
                </a:cubicBezTo>
                <a:cubicBezTo>
                  <a:pt x="3604" y="14321"/>
                  <a:pt x="3596" y="14328"/>
                  <a:pt x="3597" y="14387"/>
                </a:cubicBezTo>
                <a:cubicBezTo>
                  <a:pt x="3718" y="14317"/>
                  <a:pt x="3836" y="14135"/>
                  <a:pt x="4018" y="14213"/>
                </a:cubicBezTo>
                <a:cubicBezTo>
                  <a:pt x="4304" y="14336"/>
                  <a:pt x="4019" y="14738"/>
                  <a:pt x="3795" y="14709"/>
                </a:cubicBezTo>
                <a:cubicBezTo>
                  <a:pt x="3737" y="14676"/>
                  <a:pt x="3679" y="14643"/>
                  <a:pt x="3621" y="14610"/>
                </a:cubicBezTo>
              </a:path>
              <a:path w="3722" h="1440">
                <a:moveTo>
                  <a:pt x="4490" y="14288"/>
                </a:moveTo>
                <a:cubicBezTo>
                  <a:pt x="4409" y="14234"/>
                  <a:pt x="4471" y="14676"/>
                  <a:pt x="4465" y="14734"/>
                </a:cubicBezTo>
                <a:cubicBezTo>
                  <a:pt x="4457" y="14759"/>
                  <a:pt x="4448" y="14783"/>
                  <a:pt x="4440" y="14808"/>
                </a:cubicBezTo>
              </a:path>
              <a:path w="3722" h="1440">
                <a:moveTo>
                  <a:pt x="4415" y="14039"/>
                </a:moveTo>
                <a:lnTo>
                  <a:pt x="4415" y="14039"/>
                </a:lnTo>
              </a:path>
              <a:path w="3722" h="1440">
                <a:moveTo>
                  <a:pt x="4787" y="14511"/>
                </a:moveTo>
                <a:cubicBezTo>
                  <a:pt x="4787" y="14544"/>
                  <a:pt x="4787" y="14577"/>
                  <a:pt x="4787" y="14610"/>
                </a:cubicBezTo>
                <a:cubicBezTo>
                  <a:pt x="4742" y="14397"/>
                  <a:pt x="4715" y="14298"/>
                  <a:pt x="4862" y="14139"/>
                </a:cubicBezTo>
                <a:cubicBezTo>
                  <a:pt x="5101" y="14214"/>
                  <a:pt x="5081" y="14341"/>
                  <a:pt x="5060" y="14585"/>
                </a:cubicBezTo>
              </a:path>
              <a:path w="3722" h="1440">
                <a:moveTo>
                  <a:pt x="5209" y="13593"/>
                </a:moveTo>
                <a:cubicBezTo>
                  <a:pt x="5391" y="13610"/>
                  <a:pt x="5559" y="13715"/>
                  <a:pt x="5482" y="13940"/>
                </a:cubicBezTo>
                <a:cubicBezTo>
                  <a:pt x="5421" y="14118"/>
                  <a:pt x="5306" y="14047"/>
                  <a:pt x="5234" y="13990"/>
                </a:cubicBezTo>
                <a:cubicBezTo>
                  <a:pt x="5349" y="13920"/>
                  <a:pt x="5350" y="13940"/>
                  <a:pt x="5482" y="139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12960" y="6491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035" y="18033"/>
                </a:moveTo>
                <a:lnTo>
                  <a:pt x="5035" y="1803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16080" y="678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879" y="18852"/>
                </a:moveTo>
                <a:lnTo>
                  <a:pt x="5879" y="1885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7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7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7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bjective:  Students will find the area of a parallelogram</a:t>
            </a: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 Challenge Practice: 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area of a parallelogram is 84 square feet and the height is 12 feet. What is the bas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57720" y="3036960"/>
            <a:ext cx="214200" cy="374400"/>
          </a:xfrm>
          <a:custGeom>
            <a:avLst/>
            <a:gdLst/>
            <a:ahLst/>
            <a:rect l="l" t="t" r="r" b="b"/>
            <a:pathLst>
              <a:path w="596" h="1042">
                <a:moveTo>
                  <a:pt x="9401" y="8657"/>
                </a:moveTo>
                <a:cubicBezTo>
                  <a:pt x="9271" y="8620"/>
                  <a:pt x="9328" y="8642"/>
                  <a:pt x="9351" y="8830"/>
                </a:cubicBezTo>
                <a:cubicBezTo>
                  <a:pt x="9376" y="9039"/>
                  <a:pt x="9376" y="9241"/>
                  <a:pt x="9376" y="9451"/>
                </a:cubicBezTo>
                <a:cubicBezTo>
                  <a:pt x="9343" y="9214"/>
                  <a:pt x="9331" y="8969"/>
                  <a:pt x="9376" y="8731"/>
                </a:cubicBezTo>
                <a:cubicBezTo>
                  <a:pt x="9407" y="8565"/>
                  <a:pt x="9429" y="8510"/>
                  <a:pt x="9550" y="8434"/>
                </a:cubicBezTo>
                <a:cubicBezTo>
                  <a:pt x="9819" y="8592"/>
                  <a:pt x="9849" y="8777"/>
                  <a:pt x="9872" y="9103"/>
                </a:cubicBezTo>
                <a:cubicBezTo>
                  <a:pt x="9881" y="9232"/>
                  <a:pt x="9858" y="9348"/>
                  <a:pt x="9847" y="9475"/>
                </a:cubicBezTo>
              </a:path>
              <a:path w="596" h="1042">
                <a:moveTo>
                  <a:pt x="9351" y="9128"/>
                </a:moveTo>
                <a:cubicBezTo>
                  <a:pt x="9543" y="9104"/>
                  <a:pt x="9728" y="9079"/>
                  <a:pt x="9922" y="90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14840" y="3044880"/>
            <a:ext cx="803160" cy="304920"/>
          </a:xfrm>
          <a:custGeom>
            <a:avLst/>
            <a:gdLst/>
            <a:ahLst/>
            <a:rect l="l" t="t" r="r" b="b"/>
            <a:pathLst>
              <a:path w="2233" h="845">
                <a:moveTo>
                  <a:pt x="10492" y="8954"/>
                </a:moveTo>
                <a:cubicBezTo>
                  <a:pt x="10603" y="8939"/>
                  <a:pt x="10702" y="8930"/>
                  <a:pt x="10815" y="8930"/>
                </a:cubicBezTo>
              </a:path>
              <a:path w="2233" h="845">
                <a:moveTo>
                  <a:pt x="10319" y="9128"/>
                </a:moveTo>
                <a:cubicBezTo>
                  <a:pt x="10481" y="9096"/>
                  <a:pt x="10626" y="9066"/>
                  <a:pt x="10790" y="9054"/>
                </a:cubicBezTo>
              </a:path>
              <a:path w="2233" h="845">
                <a:moveTo>
                  <a:pt x="11038" y="8483"/>
                </a:moveTo>
                <a:cubicBezTo>
                  <a:pt x="11084" y="8748"/>
                  <a:pt x="11141" y="9010"/>
                  <a:pt x="11162" y="9277"/>
                </a:cubicBezTo>
                <a:cubicBezTo>
                  <a:pt x="11194" y="9125"/>
                  <a:pt x="11201" y="8772"/>
                  <a:pt x="11435" y="8781"/>
                </a:cubicBezTo>
                <a:cubicBezTo>
                  <a:pt x="11677" y="8791"/>
                  <a:pt x="11759" y="9183"/>
                  <a:pt x="11534" y="9277"/>
                </a:cubicBezTo>
                <a:cubicBezTo>
                  <a:pt x="11353" y="9300"/>
                  <a:pt x="11304" y="9308"/>
                  <a:pt x="11187" y="9302"/>
                </a:cubicBezTo>
              </a:path>
              <a:path w="2233" h="845">
                <a:moveTo>
                  <a:pt x="11881" y="8458"/>
                </a:moveTo>
                <a:cubicBezTo>
                  <a:pt x="11911" y="8663"/>
                  <a:pt x="11963" y="8874"/>
                  <a:pt x="12005" y="9079"/>
                </a:cubicBezTo>
                <a:cubicBezTo>
                  <a:pt x="12013" y="9112"/>
                  <a:pt x="12022" y="9145"/>
                  <a:pt x="12030" y="9178"/>
                </a:cubicBezTo>
                <a:cubicBezTo>
                  <a:pt x="12073" y="9049"/>
                  <a:pt x="12022" y="8862"/>
                  <a:pt x="12154" y="8756"/>
                </a:cubicBezTo>
                <a:cubicBezTo>
                  <a:pt x="12341" y="8606"/>
                  <a:pt x="12519" y="8837"/>
                  <a:pt x="12551" y="9004"/>
                </a:cubicBezTo>
                <a:cubicBezTo>
                  <a:pt x="12566" y="9080"/>
                  <a:pt x="12551" y="9196"/>
                  <a:pt x="12551" y="92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32080" y="3473280"/>
            <a:ext cx="1608120" cy="831960"/>
          </a:xfrm>
          <a:custGeom>
            <a:avLst/>
            <a:gdLst/>
            <a:ahLst/>
            <a:rect l="l" t="t" r="r" b="b"/>
            <a:pathLst>
              <a:path w="4466" h="2308">
                <a:moveTo>
                  <a:pt x="9327" y="10344"/>
                </a:moveTo>
                <a:cubicBezTo>
                  <a:pt x="9361" y="10296"/>
                  <a:pt x="9343" y="10241"/>
                  <a:pt x="9277" y="10220"/>
                </a:cubicBezTo>
                <a:cubicBezTo>
                  <a:pt x="9232" y="10205"/>
                  <a:pt x="9139" y="10218"/>
                  <a:pt x="9103" y="10244"/>
                </a:cubicBezTo>
                <a:cubicBezTo>
                  <a:pt x="9057" y="10291"/>
                  <a:pt x="9045" y="10305"/>
                  <a:pt x="9004" y="10319"/>
                </a:cubicBezTo>
                <a:cubicBezTo>
                  <a:pt x="9064" y="10427"/>
                  <a:pt x="9227" y="10471"/>
                  <a:pt x="9302" y="10592"/>
                </a:cubicBezTo>
                <a:cubicBezTo>
                  <a:pt x="9378" y="10715"/>
                  <a:pt x="9333" y="10789"/>
                  <a:pt x="9302" y="10914"/>
                </a:cubicBezTo>
                <a:cubicBezTo>
                  <a:pt x="9172" y="10905"/>
                  <a:pt x="8990" y="10894"/>
                  <a:pt x="8979" y="10716"/>
                </a:cubicBezTo>
                <a:cubicBezTo>
                  <a:pt x="8971" y="10588"/>
                  <a:pt x="9176" y="10418"/>
                  <a:pt x="9277" y="10368"/>
                </a:cubicBezTo>
                <a:cubicBezTo>
                  <a:pt x="9370" y="10322"/>
                  <a:pt x="9420" y="10357"/>
                  <a:pt x="9327" y="10294"/>
                </a:cubicBezTo>
              </a:path>
              <a:path w="4466" h="2308">
                <a:moveTo>
                  <a:pt x="9798" y="10195"/>
                </a:moveTo>
                <a:cubicBezTo>
                  <a:pt x="9798" y="10254"/>
                  <a:pt x="9755" y="10412"/>
                  <a:pt x="9798" y="10443"/>
                </a:cubicBezTo>
                <a:cubicBezTo>
                  <a:pt x="9917" y="10527"/>
                  <a:pt x="10100" y="10415"/>
                  <a:pt x="10220" y="10393"/>
                </a:cubicBezTo>
              </a:path>
              <a:path w="4466" h="2308">
                <a:moveTo>
                  <a:pt x="9996" y="10120"/>
                </a:moveTo>
                <a:cubicBezTo>
                  <a:pt x="9996" y="10313"/>
                  <a:pt x="9990" y="10500"/>
                  <a:pt x="10021" y="10691"/>
                </a:cubicBezTo>
                <a:cubicBezTo>
                  <a:pt x="10045" y="10837"/>
                  <a:pt x="10041" y="10883"/>
                  <a:pt x="10145" y="10765"/>
                </a:cubicBezTo>
              </a:path>
              <a:path w="4466" h="2308">
                <a:moveTo>
                  <a:pt x="10567" y="10244"/>
                </a:moveTo>
                <a:cubicBezTo>
                  <a:pt x="10688" y="10275"/>
                  <a:pt x="10811" y="10269"/>
                  <a:pt x="10939" y="10269"/>
                </a:cubicBezTo>
              </a:path>
              <a:path w="4466" h="2308">
                <a:moveTo>
                  <a:pt x="10542" y="10468"/>
                </a:moveTo>
                <a:cubicBezTo>
                  <a:pt x="10694" y="10437"/>
                  <a:pt x="10835" y="10407"/>
                  <a:pt x="10988" y="10393"/>
                </a:cubicBezTo>
              </a:path>
              <a:path w="4466" h="2308">
                <a:moveTo>
                  <a:pt x="11385" y="9947"/>
                </a:moveTo>
                <a:cubicBezTo>
                  <a:pt x="11399" y="10165"/>
                  <a:pt x="11443" y="10374"/>
                  <a:pt x="11460" y="10592"/>
                </a:cubicBezTo>
                <a:cubicBezTo>
                  <a:pt x="11460" y="10443"/>
                  <a:pt x="11417" y="10264"/>
                  <a:pt x="11609" y="10220"/>
                </a:cubicBezTo>
                <a:cubicBezTo>
                  <a:pt x="11791" y="10178"/>
                  <a:pt x="11840" y="10301"/>
                  <a:pt x="11931" y="10418"/>
                </a:cubicBezTo>
                <a:cubicBezTo>
                  <a:pt x="11794" y="10604"/>
                  <a:pt x="11739" y="10600"/>
                  <a:pt x="11509" y="10542"/>
                </a:cubicBezTo>
              </a:path>
              <a:path w="4466" h="2308">
                <a:moveTo>
                  <a:pt x="12353" y="9971"/>
                </a:moveTo>
                <a:cubicBezTo>
                  <a:pt x="12374" y="10158"/>
                  <a:pt x="12418" y="10335"/>
                  <a:pt x="12452" y="10517"/>
                </a:cubicBezTo>
                <a:cubicBezTo>
                  <a:pt x="12452" y="10559"/>
                  <a:pt x="12452" y="10584"/>
                  <a:pt x="12452" y="10542"/>
                </a:cubicBezTo>
              </a:path>
              <a:path w="4466" h="2308">
                <a:moveTo>
                  <a:pt x="12650" y="9996"/>
                </a:moveTo>
                <a:cubicBezTo>
                  <a:pt x="12775" y="9946"/>
                  <a:pt x="12928" y="9885"/>
                  <a:pt x="13022" y="10021"/>
                </a:cubicBezTo>
                <a:cubicBezTo>
                  <a:pt x="13132" y="10180"/>
                  <a:pt x="12871" y="10340"/>
                  <a:pt x="12774" y="10418"/>
                </a:cubicBezTo>
                <a:cubicBezTo>
                  <a:pt x="12924" y="10410"/>
                  <a:pt x="13069" y="10393"/>
                  <a:pt x="13221" y="10393"/>
                </a:cubicBezTo>
              </a:path>
              <a:path w="4466" h="2308">
                <a:moveTo>
                  <a:pt x="12055" y="9773"/>
                </a:moveTo>
                <a:cubicBezTo>
                  <a:pt x="11988" y="10014"/>
                  <a:pt x="11924" y="10288"/>
                  <a:pt x="12080" y="10517"/>
                </a:cubicBezTo>
                <a:cubicBezTo>
                  <a:pt x="12189" y="10678"/>
                  <a:pt x="12383" y="10700"/>
                  <a:pt x="12551" y="10740"/>
                </a:cubicBezTo>
              </a:path>
              <a:path w="4466" h="2308">
                <a:moveTo>
                  <a:pt x="13047" y="9649"/>
                </a:moveTo>
                <a:cubicBezTo>
                  <a:pt x="13225" y="9886"/>
                  <a:pt x="13494" y="10122"/>
                  <a:pt x="13419" y="10443"/>
                </a:cubicBezTo>
                <a:cubicBezTo>
                  <a:pt x="13351" y="10579"/>
                  <a:pt x="13335" y="10617"/>
                  <a:pt x="13271" y="10691"/>
                </a:cubicBezTo>
              </a:path>
              <a:path w="4466" h="2308">
                <a:moveTo>
                  <a:pt x="11658" y="10964"/>
                </a:moveTo>
                <a:cubicBezTo>
                  <a:pt x="11764" y="10921"/>
                  <a:pt x="11836" y="10926"/>
                  <a:pt x="11956" y="10914"/>
                </a:cubicBezTo>
                <a:cubicBezTo>
                  <a:pt x="12259" y="10884"/>
                  <a:pt x="12549" y="10923"/>
                  <a:pt x="12849" y="10914"/>
                </a:cubicBezTo>
                <a:cubicBezTo>
                  <a:pt x="13023" y="10909"/>
                  <a:pt x="13197" y="10872"/>
                  <a:pt x="13370" y="10864"/>
                </a:cubicBezTo>
                <a:cubicBezTo>
                  <a:pt x="13414" y="10864"/>
                  <a:pt x="13428" y="10861"/>
                  <a:pt x="13444" y="10889"/>
                </a:cubicBezTo>
              </a:path>
              <a:path w="4466" h="2308">
                <a:moveTo>
                  <a:pt x="12030" y="11212"/>
                </a:moveTo>
                <a:cubicBezTo>
                  <a:pt x="12086" y="11369"/>
                  <a:pt x="12088" y="11527"/>
                  <a:pt x="12129" y="11683"/>
                </a:cubicBezTo>
              </a:path>
              <a:path w="4466" h="2308">
                <a:moveTo>
                  <a:pt x="12378" y="11187"/>
                </a:moveTo>
                <a:cubicBezTo>
                  <a:pt x="12504" y="11119"/>
                  <a:pt x="12562" y="11105"/>
                  <a:pt x="12700" y="11112"/>
                </a:cubicBezTo>
                <a:cubicBezTo>
                  <a:pt x="12700" y="11351"/>
                  <a:pt x="12574" y="11423"/>
                  <a:pt x="12427" y="11609"/>
                </a:cubicBezTo>
                <a:cubicBezTo>
                  <a:pt x="12419" y="11625"/>
                  <a:pt x="12410" y="11642"/>
                  <a:pt x="12402" y="11658"/>
                </a:cubicBezTo>
                <a:cubicBezTo>
                  <a:pt x="12559" y="11617"/>
                  <a:pt x="12716" y="11566"/>
                  <a:pt x="12874" y="11534"/>
                </a:cubicBezTo>
              </a:path>
              <a:path w="4466" h="2308">
                <a:moveTo>
                  <a:pt x="9029" y="11212"/>
                </a:moveTo>
                <a:cubicBezTo>
                  <a:pt x="9375" y="11136"/>
                  <a:pt x="9718" y="11068"/>
                  <a:pt x="10071" y="11038"/>
                </a:cubicBezTo>
              </a:path>
              <a:path w="4466" h="2308">
                <a:moveTo>
                  <a:pt x="9054" y="11385"/>
                </a:moveTo>
                <a:cubicBezTo>
                  <a:pt x="9100" y="11570"/>
                  <a:pt x="9149" y="11748"/>
                  <a:pt x="9203" y="11931"/>
                </a:cubicBezTo>
                <a:cubicBezTo>
                  <a:pt x="9203" y="11939"/>
                  <a:pt x="9203" y="11948"/>
                  <a:pt x="9203" y="11956"/>
                </a:cubicBezTo>
              </a:path>
              <a:path w="4466" h="2308">
                <a:moveTo>
                  <a:pt x="9550" y="11460"/>
                </a:moveTo>
                <a:cubicBezTo>
                  <a:pt x="9691" y="11420"/>
                  <a:pt x="9812" y="11359"/>
                  <a:pt x="9947" y="11410"/>
                </a:cubicBezTo>
                <a:cubicBezTo>
                  <a:pt x="9867" y="11568"/>
                  <a:pt x="9807" y="11638"/>
                  <a:pt x="9674" y="11757"/>
                </a:cubicBezTo>
                <a:cubicBezTo>
                  <a:pt x="9816" y="11783"/>
                  <a:pt x="9971" y="11736"/>
                  <a:pt x="10120" y="117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89200" y="4402080"/>
            <a:ext cx="965160" cy="312840"/>
          </a:xfrm>
          <a:custGeom>
            <a:avLst/>
            <a:gdLst/>
            <a:ahLst/>
            <a:rect l="l" t="t" r="r" b="b"/>
            <a:pathLst>
              <a:path w="2680" h="869">
                <a:moveTo>
                  <a:pt x="9971" y="12675"/>
                </a:moveTo>
                <a:cubicBezTo>
                  <a:pt x="10210" y="12627"/>
                  <a:pt x="10447" y="12606"/>
                  <a:pt x="10691" y="12601"/>
                </a:cubicBezTo>
                <a:cubicBezTo>
                  <a:pt x="10716" y="12601"/>
                  <a:pt x="10740" y="12601"/>
                  <a:pt x="10765" y="12601"/>
                </a:cubicBezTo>
                <a:cubicBezTo>
                  <a:pt x="10753" y="12777"/>
                  <a:pt x="10693" y="12928"/>
                  <a:pt x="10666" y="13097"/>
                </a:cubicBezTo>
              </a:path>
              <a:path w="2680" h="869">
                <a:moveTo>
                  <a:pt x="11112" y="12650"/>
                </a:moveTo>
                <a:cubicBezTo>
                  <a:pt x="11268" y="12612"/>
                  <a:pt x="11424" y="12587"/>
                  <a:pt x="11584" y="12576"/>
                </a:cubicBezTo>
              </a:path>
              <a:path w="2680" h="869">
                <a:moveTo>
                  <a:pt x="11261" y="12799"/>
                </a:moveTo>
                <a:cubicBezTo>
                  <a:pt x="11384" y="12793"/>
                  <a:pt x="11489" y="12781"/>
                  <a:pt x="11609" y="12750"/>
                </a:cubicBezTo>
              </a:path>
              <a:path w="2680" h="869">
                <a:moveTo>
                  <a:pt x="11931" y="12229"/>
                </a:moveTo>
                <a:cubicBezTo>
                  <a:pt x="11945" y="12467"/>
                  <a:pt x="11980" y="12680"/>
                  <a:pt x="12080" y="12898"/>
                </a:cubicBezTo>
                <a:cubicBezTo>
                  <a:pt x="12088" y="12906"/>
                  <a:pt x="12097" y="12915"/>
                  <a:pt x="12105" y="12923"/>
                </a:cubicBezTo>
                <a:cubicBezTo>
                  <a:pt x="12105" y="12721"/>
                  <a:pt x="12119" y="12535"/>
                  <a:pt x="12378" y="12526"/>
                </a:cubicBezTo>
                <a:cubicBezTo>
                  <a:pt x="12544" y="12574"/>
                  <a:pt x="12597" y="12585"/>
                  <a:pt x="12650" y="12700"/>
                </a:cubicBezTo>
                <a:cubicBezTo>
                  <a:pt x="12505" y="12929"/>
                  <a:pt x="12483" y="12913"/>
                  <a:pt x="12204" y="129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Homework: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erimeter/Area Worksheet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02:21Z</dcterms:created>
  <dc:creator>ccps</dc:creator>
  <dc:description/>
  <dc:language>en-US</dc:language>
  <cp:lastModifiedBy>deanne elizabeth mcgrath</cp:lastModifiedBy>
  <dcterms:modified xsi:type="dcterms:W3CDTF">2010-05-13T15:14:29Z</dcterms:modified>
  <cp:revision>10</cp:revision>
  <dc:subject/>
  <dc:title>Unit 14</dc:title>
</cp:coreProperties>
</file>